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media/image27.wmf" ContentType="image/x-wmf"/>
  <Override PartName="/ppt/media/image26.wmf" ContentType="image/x-wmf"/>
  <Override PartName="/ppt/media/image23.png" ContentType="image/png"/>
  <Override PartName="/ppt/media/image21.jpeg" ContentType="image/jpeg"/>
  <Override PartName="/ppt/media/image22.png" ContentType="image/png"/>
  <Override PartName="/ppt/media/image20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wmf" ContentType="image/x-wmf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0" y="0"/>
            <a:ext cx="6872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dt" idx="58"/>
          </p:nvPr>
        </p:nvSpPr>
        <p:spPr>
          <a:xfrm>
            <a:off x="389268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sldImg"/>
          </p:nvPr>
        </p:nvSpPr>
        <p:spPr>
          <a:xfrm>
            <a:off x="991800" y="733320"/>
            <a:ext cx="488628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ftr" idx="59"/>
          </p:nvPr>
        </p:nvSpPr>
        <p:spPr>
          <a:xfrm>
            <a:off x="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 type="sldNum" idx="60"/>
          </p:nvPr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3A04-AC53-428E-AAC2-BC6950DD2921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ángulo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4537-85CC-4919-B913-2CB488BFF3CC}" type="slidenum"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85C7-59AC-4F22-997F-C7ADB2A0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595A-040B-47B8-A898-95839D10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4209E-A9BF-4CFD-A2E6-0117124F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23144-3E41-4EA1-9B76-963B9F12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C20E1-B10F-4DA8-9DBF-65242E5E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43069-9003-436D-A588-22DACD76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2FA56-BC07-4523-ACC4-89616B06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D2BBF-E532-44B7-A518-C51E7B31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5B134-C67C-4545-A2EB-F2B179C4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3D8BF-0D7B-46D8-A8A7-3A6E6878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AD63C-5DD1-448E-8751-F3F7D238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5E42B-0225-4B5C-900A-9D5D4F79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0BDB-0E3D-4170-8C41-1D5D1728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D0333-39D3-45DC-A022-CA0C41B0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914B4-8F54-478B-950C-E4FF3984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BC258-B188-4D80-8979-8A7658E6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F67BD-4AAA-4D8A-95C6-DA992C23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B9288-D7E1-483D-B8CF-8A63BD5C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29440-F8FB-4BFA-9FEC-444DC506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0D17A-F483-4113-A6FA-B4B0F11F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345D7-4CAF-4C5B-9079-D289FA49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8E4E9-69FC-4A35-98D5-8C00EF92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00524-CB3B-41A4-98CA-426DC1AC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FED9-3522-458F-976C-C0D2D9CC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AEC91-11C3-437B-8EDB-24270638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525AD-3CA9-4279-9228-6B7B3A78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1F962-460F-4A18-BAD8-2E53B616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2E85F-AB18-4C82-A367-69630D39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F3D3C-D08F-4883-8FBE-4A8E331C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AA1F6-D2F5-4E85-92D1-CE532A08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ADAE8-F098-4161-AE40-9DCD834B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90683-D0EB-4B32-BA7F-967437F2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D8B0D-4A04-4515-95FE-83347227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806E7-01EB-4737-B71A-DBA0F29B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DE9A-A102-4015-B6A7-5AEB97E3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E2ED1-1D71-497D-B128-54451D38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FA2D7-DF3E-407A-9545-385599AD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07C61-76C6-4176-9C1F-C585D837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2AF2C-81C7-40CA-815E-A58330B9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0B4B8-40DD-41F6-9EFE-64728C1D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AA344-3B54-4CBC-91D1-B8CB84D2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9980E-0234-4783-9CA0-575A64A3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C254C-C3DB-4953-86B6-1BBBDD30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83464-BAE2-468E-8C58-11B4CF1B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DBE48-5B39-414D-AC13-53CA3C72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7C38-4039-44F4-9CEA-D039BBCF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61714-EAFD-4B00-BABF-C1D08344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5CCCA-DC05-4E1A-AC8D-569C084F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A45BE-49A8-48F6-8489-CC63E105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4A6DB-8CFE-46CA-BAB0-3B9A4D55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F5C09-8936-4F9E-9E58-CE69ECC6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36B3B-830C-4C9E-A78C-7E5951E5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72350B-D0F5-44CA-8BE2-F3E35BE5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E278B-E1EC-4AA0-A167-4DD8EAE6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4C3BFF-C6E9-4D47-8CFC-24B07C0E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98DFED-3776-45EE-B917-807CC62E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1646-FC66-4806-8C5B-D3FF8B1E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256B1C-AA6E-4C09-8A9F-924AEF76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F6BD3D-7AFB-4BC8-A697-4455CF1F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C9B753-DC34-4171-A7EE-C888219B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676A49-910C-43B7-8063-5A0AFEE9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3EB5CC-0BCC-4B17-89F8-CFB3941D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67965A-F356-4A69-BB98-DF338D65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1025D9-9EFF-4C7D-BD5F-D75499FB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B32B9B-BC5C-40CF-B235-31670EA8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051BEA-AE5A-4B27-9DD9-E60132D2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BB9EC3-1933-40B0-95D1-533C4AFE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590D-C97C-42BE-827E-7033E2BE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BC441C-8F17-44B9-9716-B84A8D41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48506A-C86B-41C8-A49E-D2B9F200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14C36B-165D-4423-9FD7-15643888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B3A509-562C-4DBF-85A6-2FA7795F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3F7565-0D32-421C-B6DB-A8C00DE7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16A70B-F42B-40F2-B0AD-57EAF998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12DD19-CE75-407B-AF53-FF6B73B0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3281C3-DDBB-4F15-B075-5C00F8FD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E1B541-5040-4B18-BA7A-9747509A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A2E795-9BFE-48F3-B7F3-27073E02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430C-326C-4AF8-A882-E39F2308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82E6B5-ACCA-4B41-9988-FBA2DD85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0D686B-DFEC-4680-BE2F-78998722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7C915E-AD78-4AA7-8B61-3C00DA3B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0A1FCD-2580-4701-9330-14F24AAB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FAD314-58F7-4DC2-8E85-C059EC6C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C76A5D-885E-4741-84FF-1FEAFA31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B5932D-A2DF-432F-BB64-5CF54545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8A539E-C666-44CB-A85D-116BDF06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1123AD-9A9A-44E4-A07A-CB83AEFE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43CDF6-0E76-41AE-88F2-671A0677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A611-F8E8-48E9-ACEB-2C04CF1E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2E50FB-0698-4291-8147-7E2EB3C9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5A8A8A-6E8B-4DB2-80DF-09BA7AD1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664DE4-FB33-4D7D-AE58-85F08FE8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8F20A6-5198-4609-BB12-77610041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0FD5D6-0FB8-4E6C-BC57-869656B9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147771-BCD0-486E-83C2-3DD9C793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0C0600-7C6D-4E77-A18B-F3DF8C50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7DA0C3-C299-4653-BF0D-4463446B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06CCF1-1B07-40B9-B687-0D875330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CBDBC3-238A-4D88-9218-CBD87193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F418-992F-4F48-A2DA-22271590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3E7F6A-E8C5-4CC1-9BDF-76BF7036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0A12A5-F53B-42C2-A593-FBA42127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E59579-8B8D-421F-A1E1-BE1D48E9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912682-662A-47EE-B7EF-D0D28CE5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D6D09C-2C06-46D9-81BC-00F3D121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8733FD-8CF8-4088-B67E-F35918FF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3E7C94-7CDD-4479-9569-F9F6D866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03F546-B980-47C0-927C-F38926DC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F2D350-FF63-4888-9233-7FC884BD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D5B1DC-C0F0-4028-BBB7-E9D48180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39C6-8C26-43DD-9840-3F822863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25F7-530E-4039-955C-9C29ED5F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E52A87-351E-4ABF-BDB6-8CE61945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EA4B8F-0524-414E-9B66-BE329648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B76FD0-33CC-4C73-9857-8E11DB2D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0707CF-85FE-4F91-8297-FE4CADBC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4B4C20-D166-4E35-9A83-9213CE6D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D0B9CE-08B6-47CD-B956-0A4942C7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603CF5-D76C-4CFD-84E7-6A6FF1E9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8D98C8-0642-474E-BAED-C1054DF9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462B24-9A58-41CC-9D9F-0BD099CF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9FC0BB-1AF9-44C2-9152-5E3F28CE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81E8-95D4-4489-97EE-ED2B2691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D006D0-5D03-4038-A263-034DBC18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CF86AD-9341-48A0-9267-C7906069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A0C6BE-0A93-4C72-AB37-B81DE5A3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6EC42C-1C58-4794-981A-F575D22B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2A9614-837A-4267-A0E7-E8CAD7D5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75B9B1-9A74-4FFA-ACED-F94FC7AF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648B8A-025C-4A08-BDD9-8C7EF3AD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A6EB99-99ED-4CE9-8B47-B56FBE84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91929C-11A3-4ADC-AE84-CDC39584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D3B7FD-0869-4A5A-8577-0D7DF0D8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D266-CEA7-4A70-A8EB-12D4D5F6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5E6026-7E7F-48D4-ACC6-5A2DB934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EA4744-C013-4080-8E5B-A5DED316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5CA5EC-6E40-43DF-8BDB-A6454F11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329871-E0BF-4449-B064-AD11403B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8406DF-E18F-4097-9A09-A0558B06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9656FD-BF5C-4BE6-A779-E8E36C04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530900-75E2-42E4-88FD-A01ACC3A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FD3C28-4FB7-4F05-98D8-DFD6BC12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993041-0F05-48F4-A035-6DB012A2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22BE-84A6-43F8-9DB8-F332438E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706B-2FEA-4E4D-9E0C-0FA7D26B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34B56-2ECC-4097-A532-3A80C94C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C2644-36B9-44D8-80CF-24DCBF84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5FD09-F44F-4EC9-BB48-D2588491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FD993-2640-48A1-99B0-450B2EC0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87179-9149-416F-9592-9E7D3C73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A007-EB23-4222-A01A-9D720441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A5E0D-91CC-4375-B795-E478C0A9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2CF42-E40F-4949-A58D-C1A3C706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6803C-4F3C-4023-8B2D-2DA986EA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BF35C-249C-4659-8ACB-9C9D026F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163EB-33F7-49B9-8B7D-F7FFB151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CCB10-8E4D-44C8-B38A-F1C0926D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78A5A-66CE-4581-9F09-C707FDE3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C4F67-271E-4046-B8E8-448B566F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6C498-F3A3-4512-9446-FF773285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93816-A133-4BD9-9117-FCF9A0EC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30A-3EB4-490C-907F-829A6608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3ED71-BF11-491B-9B84-33974233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457AA-7B6E-47E0-A0CD-DB36D083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7D985-C814-4304-9B4C-E2C150CF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07857-5F47-4E0E-8A72-C354B13F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B6214-24CA-4997-8427-5DE044E6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F0355-AD8D-4FF8-A5F7-4283734D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D0CB3-0CF6-42CE-AB56-9D9C5249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23420-1F4A-4CCA-90F4-6AFBE469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473AB-7738-4CCC-868C-82109DED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25AF1-0A07-46EE-AE25-C0FAC218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99FB-7514-489C-AAB3-F7216ED5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6F375-C3B2-46A2-9354-99B022AA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92902-F4B0-4736-A9E3-670BFAEC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78187-D2B2-4339-9D49-4A47E42A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263F9-BEBB-4DF2-9E56-D0DA4544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A896D-1F6A-42F9-A143-8A439810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3E2D7-5763-47D2-978A-B273DC5C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C527E-5F04-4103-9C2A-604EC968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8B194-8BEA-4DE1-BB9C-1EE56213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A997B-BC46-4EA9-A71D-2EC6E4FA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9054C-7408-4757-826C-DAABE819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F1E0-EFC0-4604-B811-543576A9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472A6-DB66-4501-8536-2EA6A362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C380B-CD8E-4067-849C-96B7B4C9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54D89-DA09-406F-8F4E-BF3F2DAC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A1A59-2A64-4C04-85FC-DC7166E8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C034E-A855-45BB-AF34-29BAD688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D2C70-191A-4071-AE2D-11501835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8468A-F26A-4589-A7A9-581A8E83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54A36-C29E-431E-8CA4-1107AFB3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AF889-A44C-449E-89C6-8A58B2A2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B3278-E41F-40B8-AC62-0EB5DE4C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28F4-736F-4845-9E2C-099CEBF3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8E73B-A664-49A2-B0FC-28A3539F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F429C-4184-48CA-AC93-17387F05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7F84D-9252-468A-ADD9-FE9706C5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EF22A-D324-4B58-9B04-1F31030A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F66C7-5D10-4536-881A-4D43176B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6E778-F9D3-4F3F-875E-B09DE36E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817AE-14E8-4633-A308-D141D90F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AF91C-0D84-402B-971A-E9ACE3D5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79E1A-AD25-4649-A089-C50DCD0C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DB6A8-23FC-4D27-BAAF-AA9E47A2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445C-A9E7-4690-970C-1391E161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D13AD-8275-403C-BDA2-4D4FCC6B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7B964-44F4-4FAF-8057-8C34290F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C6600-8196-4EBA-8A61-8C55F437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A926D-AD6D-4FB2-A0D2-45D946B9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C97B7-37FF-4449-BCD3-87D81290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85587-A042-4B9C-9DE3-40B66D86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2E08F-D4ED-433E-9ECA-9890F3AC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06B22-05DA-4C9C-8410-6B8269BE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F2067-179E-4457-81CB-F8CF136B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FD260-4AC7-4221-9FB0-B94D78CB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E96-64E8-4521-A641-59399630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70AA8-FB50-4111-B678-172A1870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8B26A-9BC9-42C0-A34F-9C48A7E0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450C1-17A4-4129-8402-3113919B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3FCC8-4828-4679-816E-F3052D76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DA616-324A-45D7-B95A-5FD9090C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65FCB-1129-4A25-BC3B-ECDE8243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494EC-E723-48F3-9190-F6EAC2F0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52E56-A329-495A-BF41-09BBE85C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A0DCE-5FDE-4D5B-ACE0-D44172B1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7EFC3-6093-4B47-990C-461F0CFB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75DF-3F84-4C72-B560-8A4B4DCE0C4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A59D-C496-4D2E-BF48-AC22A487B63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E41F-4047-4E7D-AAC5-75DCE3AEACF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1250-EDE6-4897-94BD-3C916FF4B20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DE53-4CFE-4BAE-A17B-C6D77B2CF98D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7760-7E2F-4544-B27E-3A83A9B6CF3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CEFB-3C7C-4FA9-914A-317F9759C03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3061-04C5-4A8F-8B70-EC7CEBDBADB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831F-DBDA-4E29-BC76-5823DACAA49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C6F9-E80F-425A-A2EE-83504FDBE3C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0E37-7EC6-475B-BF24-F229DDC3552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DAE5-51A1-46EE-8EC4-6EC247460B8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6C83-F839-4156-A72A-52BC0AEDB9E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067D-7AD7-493D-A666-BCEB596A2C3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3F2D-F28A-4202-8CE2-D614DF3FE8A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A410-06F3-48ED-BA2C-15832C2B672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C887-1D4C-4DA6-AC2C-F43DE121478D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ED46-8E29-4761-B36B-A159CC22525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DBE2-B1E5-4E56-A641-E9CA71D2CCB7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A9C5-9EF3-4C16-87B9-963D0F77081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CC93-FBD5-47D0-BE04-50DE02093E97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66B9-B979-4229-AD0A-06F62E77203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F085-B450-491A-8786-ECF2C990F90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7A8D-8252-46AC-A876-86D4876729C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522B-A2E7-410C-ABD9-361BB28255FD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B7EB-3397-4ED6-B6F9-04E0052378B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7B22-8DF1-4684-8C42-2A6E72F2F8BA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181D-421A-4A53-B53B-7A77CF17084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931C-BDD0-49F3-B909-E2B99438C38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0B49-FB35-4341-B23F-B6BB0981C3F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8B07-37DA-46A9-B277-DF1B01AC9A7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5F36-92A0-49F9-8417-AADAA17C42F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E080-6784-4289-BB49-22F57FF5CD6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1E8A-1C3B-46B8-A9CD-077EADF795F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ECA3-95CB-4637-8F1C-B5342EE53C7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0347-B239-46A2-9DFA-D7231043ABA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5849-58D6-4EFA-91D1-2F718714A27B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92BB-2464-4FDD-B7C3-17234040054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Imagen 2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704000" cy="5006880"/>
          </a:xfrm>
          <a:prstGeom prst="rect">
            <a:avLst/>
          </a:prstGeom>
          <a:ln w="0">
            <a:noFill/>
          </a:ln>
        </p:spPr>
      </p:pic>
      <p:pic>
        <p:nvPicPr>
          <p:cNvPr id="807" name="Imagen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ángulo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Rectángulo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Rectángulo 7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Biosíntesis de Fosfolí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Rectángulo 8"/>
          <p:cNvSpPr/>
          <p:nvPr/>
        </p:nvSpPr>
        <p:spPr>
          <a:xfrm>
            <a:off x="990720" y="1784520"/>
            <a:ext cx="1990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Diacilglice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Rectángulo 9"/>
          <p:cNvSpPr/>
          <p:nvPr/>
        </p:nvSpPr>
        <p:spPr>
          <a:xfrm>
            <a:off x="4191120" y="1676520"/>
            <a:ext cx="244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cido fosfatíd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Rectángulo 10"/>
          <p:cNvSpPr/>
          <p:nvPr/>
        </p:nvSpPr>
        <p:spPr>
          <a:xfrm>
            <a:off x="1219320" y="2895480"/>
            <a:ext cx="20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0" name="Imagen 11" descr=""/>
          <p:cNvPicPr/>
          <p:nvPr/>
        </p:nvPicPr>
        <p:blipFill>
          <a:blip r:embed="rId1"/>
          <a:stretch/>
        </p:blipFill>
        <p:spPr>
          <a:xfrm>
            <a:off x="3051000" y="2292480"/>
            <a:ext cx="6093000" cy="4565520"/>
          </a:xfrm>
          <a:prstGeom prst="rect">
            <a:avLst/>
          </a:prstGeom>
          <a:ln w="0">
            <a:noFill/>
          </a:ln>
        </p:spPr>
      </p:pic>
      <p:sp>
        <p:nvSpPr>
          <p:cNvPr id="871" name="Rectángulo 12"/>
          <p:cNvSpPr/>
          <p:nvPr/>
        </p:nvSpPr>
        <p:spPr>
          <a:xfrm>
            <a:off x="3195720" y="3611520"/>
            <a:ext cx="2219400" cy="3938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cido fosfatí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Rectángulo 13"/>
          <p:cNvSpPr/>
          <p:nvPr/>
        </p:nvSpPr>
        <p:spPr>
          <a:xfrm>
            <a:off x="6877080" y="4581360"/>
            <a:ext cx="1871640" cy="332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CDP-Diacil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Rectángulo 14"/>
          <p:cNvSpPr/>
          <p:nvPr/>
        </p:nvSpPr>
        <p:spPr>
          <a:xfrm>
            <a:off x="8494560" y="4152960"/>
            <a:ext cx="314640" cy="393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Línea 15"/>
          <p:cNvSpPr/>
          <p:nvPr/>
        </p:nvSpPr>
        <p:spPr>
          <a:xfrm flipH="1" flipV="1">
            <a:off x="2289240" y="2292480"/>
            <a:ext cx="761760" cy="12189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ángulo 16"/>
          <p:cNvSpPr/>
          <p:nvPr/>
        </p:nvSpPr>
        <p:spPr>
          <a:xfrm>
            <a:off x="225360" y="1886040"/>
            <a:ext cx="53352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Times New Roman"/>
                <a:ea typeface="Arial"/>
              </a:rPr>
              <a:t>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Línea 17"/>
          <p:cNvSpPr/>
          <p:nvPr/>
        </p:nvSpPr>
        <p:spPr>
          <a:xfrm flipH="1">
            <a:off x="761760" y="200196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Cuadro de texto 7"/>
          <p:cNvSpPr/>
          <p:nvPr/>
        </p:nvSpPr>
        <p:spPr>
          <a:xfrm>
            <a:off x="611280" y="4221000"/>
            <a:ext cx="223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CDP-diacilglicero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Cuadro de texto 8"/>
          <p:cNvSpPr/>
          <p:nvPr/>
        </p:nvSpPr>
        <p:spPr>
          <a:xfrm>
            <a:off x="4284720" y="2781360"/>
            <a:ext cx="2089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,2-Diacilglicero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Cuadro de texto 9"/>
          <p:cNvSpPr/>
          <p:nvPr/>
        </p:nvSpPr>
        <p:spPr>
          <a:xfrm>
            <a:off x="3562200" y="5877000"/>
            <a:ext cx="2305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Glicerofosfolíp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Cuadro de texto 10"/>
          <p:cNvSpPr/>
          <p:nvPr/>
        </p:nvSpPr>
        <p:spPr>
          <a:xfrm>
            <a:off x="5851440" y="4599000"/>
            <a:ext cx="207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Serina, Etanolamina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1" name="Picture 2" descr=""/>
          <p:cNvPicPr/>
          <p:nvPr/>
        </p:nvPicPr>
        <p:blipFill>
          <a:blip r:embed="rId1"/>
          <a:stretch/>
        </p:blipFill>
        <p:spPr>
          <a:xfrm>
            <a:off x="611280" y="225360"/>
            <a:ext cx="8188200" cy="629928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3" descr=""/>
          <p:cNvPicPr/>
          <p:nvPr/>
        </p:nvPicPr>
        <p:blipFill>
          <a:blip r:embed="rId2"/>
          <a:stretch/>
        </p:blipFill>
        <p:spPr>
          <a:xfrm>
            <a:off x="6446880" y="4649760"/>
            <a:ext cx="23526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7f7f7f"/>
          </a:solidFill>
          <a:ln w="936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SÍNTESIS DE FOSFATIDILCOLINA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884" name="Grupo 23"/>
          <p:cNvGrpSpPr/>
          <p:nvPr/>
        </p:nvGrpSpPr>
        <p:grpSpPr>
          <a:xfrm>
            <a:off x="611280" y="1916280"/>
            <a:ext cx="4205160" cy="4392360"/>
            <a:chOff x="611280" y="1916280"/>
            <a:chExt cx="4205160" cy="4392360"/>
          </a:xfrm>
        </p:grpSpPr>
        <p:pic>
          <p:nvPicPr>
            <p:cNvPr id="885" name="Imagen 4" descr="fi19p5"/>
            <p:cNvPicPr/>
            <p:nvPr/>
          </p:nvPicPr>
          <p:blipFill>
            <a:blip r:embed="rId1"/>
            <a:srcRect l="0" t="0" r="15677" b="40533"/>
            <a:stretch/>
          </p:blipFill>
          <p:spPr>
            <a:xfrm>
              <a:off x="611280" y="1916280"/>
              <a:ext cx="4205160" cy="43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Cuadro de texto 21"/>
            <p:cNvSpPr/>
            <p:nvPr/>
          </p:nvSpPr>
          <p:spPr>
            <a:xfrm>
              <a:off x="685800" y="5424480"/>
              <a:ext cx="106668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itidi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7" name="Rectángulo 22"/>
          <p:cNvSpPr/>
          <p:nvPr/>
        </p:nvSpPr>
        <p:spPr>
          <a:xfrm>
            <a:off x="600120" y="2036880"/>
            <a:ext cx="1219320" cy="1295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8" name="Grupo 24"/>
          <p:cNvGrpSpPr/>
          <p:nvPr/>
        </p:nvGrpSpPr>
        <p:grpSpPr>
          <a:xfrm>
            <a:off x="4594320" y="1825560"/>
            <a:ext cx="4525920" cy="3794040"/>
            <a:chOff x="4594320" y="1825560"/>
            <a:chExt cx="4525920" cy="3794040"/>
          </a:xfrm>
        </p:grpSpPr>
        <p:pic>
          <p:nvPicPr>
            <p:cNvPr id="889" name="Imagen 7" descr="fi19p5"/>
            <p:cNvPicPr/>
            <p:nvPr/>
          </p:nvPicPr>
          <p:blipFill>
            <a:blip r:embed="rId2"/>
            <a:srcRect l="4770" t="43625" r="0" b="0"/>
            <a:stretch/>
          </p:blipFill>
          <p:spPr>
            <a:xfrm>
              <a:off x="4791240" y="1825560"/>
              <a:ext cx="432900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Cuadro de texto 19"/>
            <p:cNvSpPr/>
            <p:nvPr/>
          </p:nvSpPr>
          <p:spPr>
            <a:xfrm>
              <a:off x="4594320" y="2118960"/>
              <a:ext cx="10670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itidi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Cuadro de texto 20"/>
            <p:cNvSpPr/>
            <p:nvPr/>
          </p:nvSpPr>
          <p:spPr>
            <a:xfrm>
              <a:off x="6804360" y="3725640"/>
              <a:ext cx="76176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M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ángulo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ángulo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Rectángulo 6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  <a:ea typeface="Arial"/>
              </a:rPr>
              <a:t>Biosíntesis de fosfolípidos a partir de CDP-diacilglice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Rectángulo 7"/>
          <p:cNvSpPr/>
          <p:nvPr/>
        </p:nvSpPr>
        <p:spPr>
          <a:xfrm>
            <a:off x="3048120" y="2362320"/>
            <a:ext cx="2286000" cy="6987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DP- Diacilglic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Línea 8"/>
          <p:cNvSpPr/>
          <p:nvPr/>
        </p:nvSpPr>
        <p:spPr>
          <a:xfrm flipH="1">
            <a:off x="2819520" y="2895480"/>
            <a:ext cx="76176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Línea 9"/>
          <p:cNvSpPr/>
          <p:nvPr/>
        </p:nvSpPr>
        <p:spPr>
          <a:xfrm>
            <a:off x="4419720" y="2895480"/>
            <a:ext cx="990360" cy="838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Rectángulo 10"/>
          <p:cNvSpPr/>
          <p:nvPr/>
        </p:nvSpPr>
        <p:spPr>
          <a:xfrm>
            <a:off x="1752480" y="2514600"/>
            <a:ext cx="92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GL-3-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Rectángulo 11"/>
          <p:cNvSpPr/>
          <p:nvPr/>
        </p:nvSpPr>
        <p:spPr>
          <a:xfrm>
            <a:off x="542880" y="3808440"/>
            <a:ext cx="227340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osfatidilglic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ángulo 12"/>
          <p:cNvSpPr/>
          <p:nvPr/>
        </p:nvSpPr>
        <p:spPr>
          <a:xfrm>
            <a:off x="230040" y="4421160"/>
            <a:ext cx="175284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Fosfatidil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Línea 13"/>
          <p:cNvSpPr/>
          <p:nvPr/>
        </p:nvSpPr>
        <p:spPr>
          <a:xfrm>
            <a:off x="2286000" y="43434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ángulo 14"/>
          <p:cNvSpPr/>
          <p:nvPr/>
        </p:nvSpPr>
        <p:spPr>
          <a:xfrm>
            <a:off x="838080" y="5448240"/>
            <a:ext cx="1981440" cy="454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rdiolip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ángulo 15"/>
          <p:cNvSpPr/>
          <p:nvPr/>
        </p:nvSpPr>
        <p:spPr>
          <a:xfrm>
            <a:off x="992160" y="4878360"/>
            <a:ext cx="9144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ángulo 16"/>
          <p:cNvSpPr/>
          <p:nvPr/>
        </p:nvSpPr>
        <p:spPr>
          <a:xfrm>
            <a:off x="4605480" y="3838680"/>
            <a:ext cx="2414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imes New Roman"/>
                <a:ea typeface="Arial"/>
              </a:rPr>
              <a:t>Fosfatidil ser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ángulo 18"/>
          <p:cNvSpPr/>
          <p:nvPr/>
        </p:nvSpPr>
        <p:spPr>
          <a:xfrm>
            <a:off x="1752480" y="2895480"/>
            <a:ext cx="771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CM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Forma libre 19"/>
          <p:cNvSpPr/>
          <p:nvPr/>
        </p:nvSpPr>
        <p:spPr>
          <a:xfrm>
            <a:off x="2057400" y="4648320"/>
            <a:ext cx="230040" cy="374400"/>
          </a:xfrm>
          <a:custGeom>
            <a:avLst/>
            <a:gdLst/>
            <a:ahLst/>
            <a:rect l="l" t="t" r="r" b="b"/>
            <a:pathLst>
              <a:path w="145" h="236">
                <a:moveTo>
                  <a:pt x="0" y="0"/>
                </a:moveTo>
                <a:lnTo>
                  <a:pt x="15" y="0"/>
                </a:lnTo>
                <a:lnTo>
                  <a:pt x="29" y="2"/>
                </a:lnTo>
                <a:lnTo>
                  <a:pt x="43" y="4"/>
                </a:lnTo>
                <a:lnTo>
                  <a:pt x="56" y="7"/>
                </a:lnTo>
                <a:lnTo>
                  <a:pt x="69" y="10"/>
                </a:lnTo>
                <a:lnTo>
                  <a:pt x="81" y="14"/>
                </a:lnTo>
                <a:lnTo>
                  <a:pt x="92" y="19"/>
                </a:lnTo>
                <a:lnTo>
                  <a:pt x="97" y="22"/>
                </a:lnTo>
                <a:lnTo>
                  <a:pt x="102" y="25"/>
                </a:lnTo>
                <a:lnTo>
                  <a:pt x="107" y="28"/>
                </a:lnTo>
                <a:lnTo>
                  <a:pt x="111" y="31"/>
                </a:lnTo>
                <a:lnTo>
                  <a:pt x="116" y="34"/>
                </a:lnTo>
                <a:lnTo>
                  <a:pt x="120" y="37"/>
                </a:lnTo>
                <a:lnTo>
                  <a:pt x="123" y="41"/>
                </a:lnTo>
                <a:lnTo>
                  <a:pt x="127" y="44"/>
                </a:lnTo>
                <a:lnTo>
                  <a:pt x="130" y="48"/>
                </a:lnTo>
                <a:lnTo>
                  <a:pt x="133" y="51"/>
                </a:lnTo>
                <a:lnTo>
                  <a:pt x="135" y="55"/>
                </a:lnTo>
                <a:lnTo>
                  <a:pt x="138" y="59"/>
                </a:lnTo>
                <a:lnTo>
                  <a:pt x="140" y="63"/>
                </a:lnTo>
                <a:lnTo>
                  <a:pt x="141" y="67"/>
                </a:lnTo>
                <a:lnTo>
                  <a:pt x="142" y="71"/>
                </a:lnTo>
                <a:lnTo>
                  <a:pt x="143" y="76"/>
                </a:lnTo>
                <a:lnTo>
                  <a:pt x="144" y="80"/>
                </a:lnTo>
                <a:lnTo>
                  <a:pt x="144" y="84"/>
                </a:lnTo>
                <a:lnTo>
                  <a:pt x="144" y="132"/>
                </a:lnTo>
                <a:lnTo>
                  <a:pt x="144" y="139"/>
                </a:lnTo>
                <a:lnTo>
                  <a:pt x="142" y="145"/>
                </a:lnTo>
                <a:lnTo>
                  <a:pt x="140" y="152"/>
                </a:lnTo>
                <a:lnTo>
                  <a:pt x="137" y="158"/>
                </a:lnTo>
                <a:lnTo>
                  <a:pt x="133" y="164"/>
                </a:lnTo>
                <a:lnTo>
                  <a:pt x="129" y="170"/>
                </a:lnTo>
                <a:lnTo>
                  <a:pt x="124" y="175"/>
                </a:lnTo>
                <a:lnTo>
                  <a:pt x="118" y="180"/>
                </a:lnTo>
                <a:lnTo>
                  <a:pt x="111" y="185"/>
                </a:lnTo>
                <a:lnTo>
                  <a:pt x="104" y="190"/>
                </a:lnTo>
                <a:lnTo>
                  <a:pt x="96" y="195"/>
                </a:lnTo>
                <a:lnTo>
                  <a:pt x="87" y="199"/>
                </a:lnTo>
                <a:lnTo>
                  <a:pt x="78" y="202"/>
                </a:lnTo>
                <a:lnTo>
                  <a:pt x="69" y="206"/>
                </a:lnTo>
                <a:lnTo>
                  <a:pt x="59" y="208"/>
                </a:lnTo>
                <a:lnTo>
                  <a:pt x="48" y="211"/>
                </a:lnTo>
                <a:lnTo>
                  <a:pt x="48" y="235"/>
                </a:lnTo>
                <a:lnTo>
                  <a:pt x="0" y="192"/>
                </a:lnTo>
                <a:lnTo>
                  <a:pt x="48" y="139"/>
                </a:lnTo>
                <a:lnTo>
                  <a:pt x="48" y="163"/>
                </a:lnTo>
                <a:lnTo>
                  <a:pt x="56" y="161"/>
                </a:lnTo>
                <a:lnTo>
                  <a:pt x="64" y="159"/>
                </a:lnTo>
                <a:lnTo>
                  <a:pt x="71" y="157"/>
                </a:lnTo>
                <a:lnTo>
                  <a:pt x="78" y="154"/>
                </a:lnTo>
                <a:lnTo>
                  <a:pt x="85" y="151"/>
                </a:lnTo>
                <a:lnTo>
                  <a:pt x="92" y="148"/>
                </a:lnTo>
                <a:lnTo>
                  <a:pt x="98" y="145"/>
                </a:lnTo>
                <a:lnTo>
                  <a:pt x="104" y="142"/>
                </a:lnTo>
                <a:lnTo>
                  <a:pt x="110" y="138"/>
                </a:lnTo>
                <a:lnTo>
                  <a:pt x="115" y="134"/>
                </a:lnTo>
                <a:lnTo>
                  <a:pt x="120" y="131"/>
                </a:lnTo>
                <a:lnTo>
                  <a:pt x="125" y="126"/>
                </a:lnTo>
                <a:lnTo>
                  <a:pt x="129" y="122"/>
                </a:lnTo>
                <a:lnTo>
                  <a:pt x="132" y="117"/>
                </a:lnTo>
                <a:lnTo>
                  <a:pt x="135" y="113"/>
                </a:lnTo>
                <a:lnTo>
                  <a:pt x="138" y="108"/>
                </a:lnTo>
                <a:lnTo>
                  <a:pt x="134" y="102"/>
                </a:lnTo>
                <a:lnTo>
                  <a:pt x="129" y="95"/>
                </a:lnTo>
                <a:lnTo>
                  <a:pt x="124" y="89"/>
                </a:lnTo>
                <a:lnTo>
                  <a:pt x="118" y="83"/>
                </a:lnTo>
                <a:lnTo>
                  <a:pt x="111" y="78"/>
                </a:lnTo>
                <a:lnTo>
                  <a:pt x="103" y="73"/>
                </a:lnTo>
                <a:lnTo>
                  <a:pt x="95" y="69"/>
                </a:lnTo>
                <a:lnTo>
                  <a:pt x="86" y="65"/>
                </a:lnTo>
                <a:lnTo>
                  <a:pt x="77" y="61"/>
                </a:lnTo>
                <a:lnTo>
                  <a:pt x="67" y="57"/>
                </a:lnTo>
                <a:lnTo>
                  <a:pt x="57" y="55"/>
                </a:lnTo>
                <a:lnTo>
                  <a:pt x="46" y="52"/>
                </a:lnTo>
                <a:lnTo>
                  <a:pt x="35" y="51"/>
                </a:lnTo>
                <a:lnTo>
                  <a:pt x="24" y="49"/>
                </a:lnTo>
                <a:lnTo>
                  <a:pt x="12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Línea 20"/>
          <p:cNvSpPr/>
          <p:nvPr/>
        </p:nvSpPr>
        <p:spPr>
          <a:xfrm flipH="1">
            <a:off x="2362320" y="3352680"/>
            <a:ext cx="30456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Forma libre 21"/>
          <p:cNvSpPr/>
          <p:nvPr/>
        </p:nvSpPr>
        <p:spPr>
          <a:xfrm>
            <a:off x="2743200" y="2743200"/>
            <a:ext cx="230040" cy="374760"/>
          </a:xfrm>
          <a:custGeom>
            <a:avLst/>
            <a:gdLst/>
            <a:ahLst/>
            <a:rect l="l" t="t" r="r" b="b"/>
            <a:pathLst>
              <a:path w="145" h="236">
                <a:moveTo>
                  <a:pt x="0" y="0"/>
                </a:moveTo>
                <a:lnTo>
                  <a:pt x="15" y="0"/>
                </a:lnTo>
                <a:lnTo>
                  <a:pt x="29" y="2"/>
                </a:lnTo>
                <a:lnTo>
                  <a:pt x="43" y="4"/>
                </a:lnTo>
                <a:lnTo>
                  <a:pt x="56" y="7"/>
                </a:lnTo>
                <a:lnTo>
                  <a:pt x="69" y="10"/>
                </a:lnTo>
                <a:lnTo>
                  <a:pt x="81" y="14"/>
                </a:lnTo>
                <a:lnTo>
                  <a:pt x="92" y="19"/>
                </a:lnTo>
                <a:lnTo>
                  <a:pt x="97" y="22"/>
                </a:lnTo>
                <a:lnTo>
                  <a:pt x="102" y="25"/>
                </a:lnTo>
                <a:lnTo>
                  <a:pt x="107" y="28"/>
                </a:lnTo>
                <a:lnTo>
                  <a:pt x="111" y="31"/>
                </a:lnTo>
                <a:lnTo>
                  <a:pt x="116" y="34"/>
                </a:lnTo>
                <a:lnTo>
                  <a:pt x="120" y="37"/>
                </a:lnTo>
                <a:lnTo>
                  <a:pt x="123" y="41"/>
                </a:lnTo>
                <a:lnTo>
                  <a:pt x="127" y="44"/>
                </a:lnTo>
                <a:lnTo>
                  <a:pt x="130" y="48"/>
                </a:lnTo>
                <a:lnTo>
                  <a:pt x="133" y="51"/>
                </a:lnTo>
                <a:lnTo>
                  <a:pt x="135" y="55"/>
                </a:lnTo>
                <a:lnTo>
                  <a:pt x="138" y="59"/>
                </a:lnTo>
                <a:lnTo>
                  <a:pt x="140" y="63"/>
                </a:lnTo>
                <a:lnTo>
                  <a:pt x="141" y="67"/>
                </a:lnTo>
                <a:lnTo>
                  <a:pt x="142" y="71"/>
                </a:lnTo>
                <a:lnTo>
                  <a:pt x="143" y="76"/>
                </a:lnTo>
                <a:lnTo>
                  <a:pt x="144" y="80"/>
                </a:lnTo>
                <a:lnTo>
                  <a:pt x="144" y="84"/>
                </a:lnTo>
                <a:lnTo>
                  <a:pt x="144" y="132"/>
                </a:lnTo>
                <a:lnTo>
                  <a:pt x="144" y="139"/>
                </a:lnTo>
                <a:lnTo>
                  <a:pt x="142" y="145"/>
                </a:lnTo>
                <a:lnTo>
                  <a:pt x="140" y="152"/>
                </a:lnTo>
                <a:lnTo>
                  <a:pt x="137" y="158"/>
                </a:lnTo>
                <a:lnTo>
                  <a:pt x="133" y="164"/>
                </a:lnTo>
                <a:lnTo>
                  <a:pt x="129" y="170"/>
                </a:lnTo>
                <a:lnTo>
                  <a:pt x="124" y="175"/>
                </a:lnTo>
                <a:lnTo>
                  <a:pt x="118" y="180"/>
                </a:lnTo>
                <a:lnTo>
                  <a:pt x="111" y="185"/>
                </a:lnTo>
                <a:lnTo>
                  <a:pt x="104" y="190"/>
                </a:lnTo>
                <a:lnTo>
                  <a:pt x="96" y="195"/>
                </a:lnTo>
                <a:lnTo>
                  <a:pt x="87" y="199"/>
                </a:lnTo>
                <a:lnTo>
                  <a:pt x="78" y="202"/>
                </a:lnTo>
                <a:lnTo>
                  <a:pt x="69" y="206"/>
                </a:lnTo>
                <a:lnTo>
                  <a:pt x="59" y="208"/>
                </a:lnTo>
                <a:lnTo>
                  <a:pt x="48" y="211"/>
                </a:lnTo>
                <a:lnTo>
                  <a:pt x="48" y="235"/>
                </a:lnTo>
                <a:lnTo>
                  <a:pt x="0" y="192"/>
                </a:lnTo>
                <a:lnTo>
                  <a:pt x="48" y="139"/>
                </a:lnTo>
                <a:lnTo>
                  <a:pt x="48" y="163"/>
                </a:lnTo>
                <a:lnTo>
                  <a:pt x="56" y="161"/>
                </a:lnTo>
                <a:lnTo>
                  <a:pt x="64" y="159"/>
                </a:lnTo>
                <a:lnTo>
                  <a:pt x="71" y="157"/>
                </a:lnTo>
                <a:lnTo>
                  <a:pt x="78" y="154"/>
                </a:lnTo>
                <a:lnTo>
                  <a:pt x="85" y="151"/>
                </a:lnTo>
                <a:lnTo>
                  <a:pt x="92" y="148"/>
                </a:lnTo>
                <a:lnTo>
                  <a:pt x="98" y="145"/>
                </a:lnTo>
                <a:lnTo>
                  <a:pt x="104" y="142"/>
                </a:lnTo>
                <a:lnTo>
                  <a:pt x="110" y="138"/>
                </a:lnTo>
                <a:lnTo>
                  <a:pt x="115" y="134"/>
                </a:lnTo>
                <a:lnTo>
                  <a:pt x="120" y="131"/>
                </a:lnTo>
                <a:lnTo>
                  <a:pt x="125" y="126"/>
                </a:lnTo>
                <a:lnTo>
                  <a:pt x="129" y="122"/>
                </a:lnTo>
                <a:lnTo>
                  <a:pt x="132" y="117"/>
                </a:lnTo>
                <a:lnTo>
                  <a:pt x="135" y="113"/>
                </a:lnTo>
                <a:lnTo>
                  <a:pt x="138" y="108"/>
                </a:lnTo>
                <a:lnTo>
                  <a:pt x="134" y="102"/>
                </a:lnTo>
                <a:lnTo>
                  <a:pt x="129" y="95"/>
                </a:lnTo>
                <a:lnTo>
                  <a:pt x="124" y="89"/>
                </a:lnTo>
                <a:lnTo>
                  <a:pt x="118" y="83"/>
                </a:lnTo>
                <a:lnTo>
                  <a:pt x="111" y="78"/>
                </a:lnTo>
                <a:lnTo>
                  <a:pt x="103" y="73"/>
                </a:lnTo>
                <a:lnTo>
                  <a:pt x="95" y="69"/>
                </a:lnTo>
                <a:lnTo>
                  <a:pt x="86" y="65"/>
                </a:lnTo>
                <a:lnTo>
                  <a:pt x="77" y="61"/>
                </a:lnTo>
                <a:lnTo>
                  <a:pt x="67" y="57"/>
                </a:lnTo>
                <a:lnTo>
                  <a:pt x="57" y="55"/>
                </a:lnTo>
                <a:lnTo>
                  <a:pt x="46" y="52"/>
                </a:lnTo>
                <a:lnTo>
                  <a:pt x="35" y="51"/>
                </a:lnTo>
                <a:lnTo>
                  <a:pt x="24" y="49"/>
                </a:lnTo>
                <a:lnTo>
                  <a:pt x="12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ángulo 22"/>
          <p:cNvSpPr/>
          <p:nvPr/>
        </p:nvSpPr>
        <p:spPr>
          <a:xfrm>
            <a:off x="5029200" y="3124080"/>
            <a:ext cx="69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CM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Rectángulo 23"/>
          <p:cNvSpPr/>
          <p:nvPr/>
        </p:nvSpPr>
        <p:spPr>
          <a:xfrm>
            <a:off x="4876920" y="2743200"/>
            <a:ext cx="771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Ser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Forma libre 24"/>
          <p:cNvSpPr/>
          <p:nvPr/>
        </p:nvSpPr>
        <p:spPr>
          <a:xfrm>
            <a:off x="4776840" y="2957400"/>
            <a:ext cx="212760" cy="368280"/>
          </a:xfrm>
          <a:custGeom>
            <a:avLst/>
            <a:gdLst/>
            <a:ahLst/>
            <a:rect l="l" t="t" r="r" b="b"/>
            <a:pathLst>
              <a:path w="134" h="232">
                <a:moveTo>
                  <a:pt x="65" y="0"/>
                </a:moveTo>
                <a:lnTo>
                  <a:pt x="56" y="4"/>
                </a:lnTo>
                <a:lnTo>
                  <a:pt x="48" y="9"/>
                </a:lnTo>
                <a:lnTo>
                  <a:pt x="40" y="14"/>
                </a:lnTo>
                <a:lnTo>
                  <a:pt x="33" y="19"/>
                </a:lnTo>
                <a:lnTo>
                  <a:pt x="26" y="26"/>
                </a:lnTo>
                <a:lnTo>
                  <a:pt x="20" y="32"/>
                </a:lnTo>
                <a:lnTo>
                  <a:pt x="15" y="40"/>
                </a:lnTo>
                <a:lnTo>
                  <a:pt x="11" y="47"/>
                </a:lnTo>
                <a:lnTo>
                  <a:pt x="7" y="55"/>
                </a:lnTo>
                <a:lnTo>
                  <a:pt x="4" y="63"/>
                </a:lnTo>
                <a:lnTo>
                  <a:pt x="2" y="71"/>
                </a:lnTo>
                <a:lnTo>
                  <a:pt x="1" y="79"/>
                </a:lnTo>
                <a:lnTo>
                  <a:pt x="0" y="87"/>
                </a:lnTo>
                <a:lnTo>
                  <a:pt x="1" y="92"/>
                </a:lnTo>
                <a:lnTo>
                  <a:pt x="1" y="96"/>
                </a:lnTo>
                <a:lnTo>
                  <a:pt x="2" y="100"/>
                </a:lnTo>
                <a:lnTo>
                  <a:pt x="2" y="104"/>
                </a:lnTo>
                <a:lnTo>
                  <a:pt x="4" y="108"/>
                </a:lnTo>
                <a:lnTo>
                  <a:pt x="5" y="112"/>
                </a:lnTo>
                <a:lnTo>
                  <a:pt x="22" y="157"/>
                </a:lnTo>
                <a:lnTo>
                  <a:pt x="25" y="163"/>
                </a:lnTo>
                <a:lnTo>
                  <a:pt x="28" y="169"/>
                </a:lnTo>
                <a:lnTo>
                  <a:pt x="31" y="174"/>
                </a:lnTo>
                <a:lnTo>
                  <a:pt x="36" y="179"/>
                </a:lnTo>
                <a:lnTo>
                  <a:pt x="40" y="184"/>
                </a:lnTo>
                <a:lnTo>
                  <a:pt x="45" y="189"/>
                </a:lnTo>
                <a:lnTo>
                  <a:pt x="50" y="193"/>
                </a:lnTo>
                <a:lnTo>
                  <a:pt x="56" y="196"/>
                </a:lnTo>
                <a:lnTo>
                  <a:pt x="62" y="199"/>
                </a:lnTo>
                <a:lnTo>
                  <a:pt x="68" y="202"/>
                </a:lnTo>
                <a:lnTo>
                  <a:pt x="75" y="205"/>
                </a:lnTo>
                <a:lnTo>
                  <a:pt x="81" y="206"/>
                </a:lnTo>
                <a:lnTo>
                  <a:pt x="88" y="208"/>
                </a:lnTo>
                <a:lnTo>
                  <a:pt x="95" y="209"/>
                </a:lnTo>
                <a:lnTo>
                  <a:pt x="103" y="209"/>
                </a:lnTo>
                <a:lnTo>
                  <a:pt x="110" y="209"/>
                </a:lnTo>
                <a:lnTo>
                  <a:pt x="119" y="231"/>
                </a:lnTo>
                <a:lnTo>
                  <a:pt x="133" y="179"/>
                </a:lnTo>
                <a:lnTo>
                  <a:pt x="85" y="141"/>
                </a:lnTo>
                <a:lnTo>
                  <a:pt x="93" y="164"/>
                </a:lnTo>
                <a:lnTo>
                  <a:pt x="82" y="164"/>
                </a:lnTo>
                <a:lnTo>
                  <a:pt x="71" y="163"/>
                </a:lnTo>
                <a:lnTo>
                  <a:pt x="60" y="161"/>
                </a:lnTo>
                <a:lnTo>
                  <a:pt x="51" y="157"/>
                </a:lnTo>
                <a:lnTo>
                  <a:pt x="41" y="153"/>
                </a:lnTo>
                <a:lnTo>
                  <a:pt x="33" y="147"/>
                </a:lnTo>
                <a:lnTo>
                  <a:pt x="29" y="144"/>
                </a:lnTo>
                <a:lnTo>
                  <a:pt x="25" y="140"/>
                </a:lnTo>
                <a:lnTo>
                  <a:pt x="21" y="137"/>
                </a:lnTo>
                <a:lnTo>
                  <a:pt x="18" y="133"/>
                </a:lnTo>
                <a:lnTo>
                  <a:pt x="18" y="126"/>
                </a:lnTo>
                <a:lnTo>
                  <a:pt x="18" y="119"/>
                </a:lnTo>
                <a:lnTo>
                  <a:pt x="20" y="112"/>
                </a:lnTo>
                <a:lnTo>
                  <a:pt x="22" y="106"/>
                </a:lnTo>
                <a:lnTo>
                  <a:pt x="24" y="99"/>
                </a:lnTo>
                <a:lnTo>
                  <a:pt x="27" y="93"/>
                </a:lnTo>
                <a:lnTo>
                  <a:pt x="31" y="87"/>
                </a:lnTo>
                <a:lnTo>
                  <a:pt x="35" y="81"/>
                </a:lnTo>
                <a:lnTo>
                  <a:pt x="39" y="75"/>
                </a:lnTo>
                <a:lnTo>
                  <a:pt x="44" y="70"/>
                </a:lnTo>
                <a:lnTo>
                  <a:pt x="50" y="65"/>
                </a:lnTo>
                <a:lnTo>
                  <a:pt x="55" y="60"/>
                </a:lnTo>
                <a:lnTo>
                  <a:pt x="61" y="56"/>
                </a:lnTo>
                <a:lnTo>
                  <a:pt x="68" y="52"/>
                </a:lnTo>
                <a:lnTo>
                  <a:pt x="75" y="48"/>
                </a:lnTo>
                <a:lnTo>
                  <a:pt x="82" y="45"/>
                </a:lnTo>
                <a:lnTo>
                  <a:pt x="65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Línea 25"/>
          <p:cNvSpPr/>
          <p:nvPr/>
        </p:nvSpPr>
        <p:spPr>
          <a:xfrm>
            <a:off x="5334120" y="419112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Rectángulo 26"/>
          <p:cNvSpPr/>
          <p:nvPr/>
        </p:nvSpPr>
        <p:spPr>
          <a:xfrm>
            <a:off x="4834080" y="5329080"/>
            <a:ext cx="1914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imes New Roman"/>
                <a:ea typeface="Arial"/>
              </a:rPr>
              <a:t>Fosfatidil Etanolam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Línea 27"/>
          <p:cNvSpPr/>
          <p:nvPr/>
        </p:nvSpPr>
        <p:spPr>
          <a:xfrm>
            <a:off x="5334120" y="449568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ángulo 28"/>
          <p:cNvSpPr/>
          <p:nvPr/>
        </p:nvSpPr>
        <p:spPr>
          <a:xfrm>
            <a:off x="5791320" y="4648320"/>
            <a:ext cx="618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CO</a:t>
            </a:r>
            <a:r>
              <a:rPr b="0" lang="es-ES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6 CuadroTexto"/>
          <p:cNvSpPr/>
          <p:nvPr/>
        </p:nvSpPr>
        <p:spPr>
          <a:xfrm>
            <a:off x="2369520" y="46306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bacte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Imagen 2" descr=""/>
          <p:cNvPicPr/>
          <p:nvPr/>
        </p:nvPicPr>
        <p:blipFill>
          <a:blip r:embed="rId1"/>
          <a:stretch/>
        </p:blipFill>
        <p:spPr>
          <a:xfrm>
            <a:off x="1258920" y="-38160"/>
            <a:ext cx="6265800" cy="6896160"/>
          </a:xfrm>
          <a:prstGeom prst="rect">
            <a:avLst/>
          </a:prstGeom>
          <a:ln w="0">
            <a:noFill/>
          </a:ln>
        </p:spPr>
      </p:pic>
      <p:sp>
        <p:nvSpPr>
          <p:cNvPr id="918" name="Cuadro de texto 3"/>
          <p:cNvSpPr/>
          <p:nvPr/>
        </p:nvSpPr>
        <p:spPr>
          <a:xfrm>
            <a:off x="4211640" y="1611360"/>
            <a:ext cx="187308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Fosfatidilser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Cuadro de texto 4"/>
          <p:cNvSpPr/>
          <p:nvPr/>
        </p:nvSpPr>
        <p:spPr>
          <a:xfrm>
            <a:off x="1258920" y="1089000"/>
            <a:ext cx="144000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f6f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  <a:ea typeface="Arial"/>
              </a:rPr>
              <a:t>Etanolam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Cuadro de texto 5"/>
          <p:cNvSpPr/>
          <p:nvPr/>
        </p:nvSpPr>
        <p:spPr>
          <a:xfrm>
            <a:off x="1692360" y="2308320"/>
            <a:ext cx="100656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f6f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  <a:ea typeface="Arial"/>
              </a:rPr>
              <a:t>Ser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Cuadro de texto 6"/>
          <p:cNvSpPr/>
          <p:nvPr/>
        </p:nvSpPr>
        <p:spPr>
          <a:xfrm>
            <a:off x="1258920" y="1614600"/>
            <a:ext cx="172872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Cuadro de texto 7"/>
          <p:cNvSpPr/>
          <p:nvPr/>
        </p:nvSpPr>
        <p:spPr>
          <a:xfrm>
            <a:off x="4859280" y="1995480"/>
            <a:ext cx="180036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3333ff"/>
                </a:solidFill>
                <a:latin typeface="Arial"/>
                <a:ea typeface="Arial"/>
              </a:rPr>
              <a:t>Descarboxil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Cuadro de texto 8"/>
          <p:cNvSpPr/>
          <p:nvPr/>
        </p:nvSpPr>
        <p:spPr>
          <a:xfrm>
            <a:off x="3492360" y="3789360"/>
            <a:ext cx="2880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Fosfatidiletanolam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Cuadro de texto 9"/>
          <p:cNvSpPr/>
          <p:nvPr/>
        </p:nvSpPr>
        <p:spPr>
          <a:xfrm>
            <a:off x="3419640" y="4149720"/>
            <a:ext cx="158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Metil 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Cuadro de texto 10"/>
          <p:cNvSpPr/>
          <p:nvPr/>
        </p:nvSpPr>
        <p:spPr>
          <a:xfrm>
            <a:off x="4076640" y="6485040"/>
            <a:ext cx="19447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Fosfatidilcol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EEAE-95F8-4D31-B642-0BF6DE8DE0C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7" name="Picture 2" descr=""/>
          <p:cNvPicPr/>
          <p:nvPr/>
        </p:nvPicPr>
        <p:blipFill>
          <a:blip r:embed="rId1"/>
          <a:stretch/>
        </p:blipFill>
        <p:spPr>
          <a:xfrm>
            <a:off x="222120" y="836640"/>
            <a:ext cx="8699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solidFill>
            <a:srgbClr val="7f7f7f"/>
          </a:solidFill>
          <a:ln w="936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BIOSÍNTESIS DE FOSFATIDIL INOSITOL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9" name="Elipse 11"/>
          <p:cNvSpPr/>
          <p:nvPr/>
        </p:nvSpPr>
        <p:spPr>
          <a:xfrm>
            <a:off x="4076640" y="5575320"/>
            <a:ext cx="1600200" cy="6858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2º Mensaj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0" name="Grupo 24"/>
          <p:cNvGrpSpPr/>
          <p:nvPr/>
        </p:nvGrpSpPr>
        <p:grpSpPr>
          <a:xfrm>
            <a:off x="380880" y="2133720"/>
            <a:ext cx="6934320" cy="642600"/>
            <a:chOff x="380880" y="2133720"/>
            <a:chExt cx="6934320" cy="642600"/>
          </a:xfrm>
        </p:grpSpPr>
        <p:sp>
          <p:nvSpPr>
            <p:cNvPr id="931" name="Cuadro de texto 4"/>
            <p:cNvSpPr/>
            <p:nvPr/>
          </p:nvSpPr>
          <p:spPr>
            <a:xfrm>
              <a:off x="380880" y="2133720"/>
              <a:ext cx="693432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DP-Diacilglicerol  +  Inositol                Fosfatidilinositol  +  CMP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Línea 14"/>
            <p:cNvSpPr/>
            <p:nvPr/>
          </p:nvSpPr>
          <p:spPr>
            <a:xfrm>
              <a:off x="3733920" y="2362320"/>
              <a:ext cx="609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3" name="Grupo 25"/>
          <p:cNvGrpSpPr/>
          <p:nvPr/>
        </p:nvGrpSpPr>
        <p:grpSpPr>
          <a:xfrm>
            <a:off x="304920" y="3809880"/>
            <a:ext cx="3041640" cy="2349720"/>
            <a:chOff x="304920" y="3809880"/>
            <a:chExt cx="3041640" cy="2349720"/>
          </a:xfrm>
        </p:grpSpPr>
        <p:pic>
          <p:nvPicPr>
            <p:cNvPr id="934" name="Imagen 13" descr="sp8431"/>
            <p:cNvPicPr/>
            <p:nvPr/>
          </p:nvPicPr>
          <p:blipFill>
            <a:blip r:embed="rId1"/>
            <a:srcRect l="0" t="0" r="60818" b="18070"/>
            <a:stretch/>
          </p:blipFill>
          <p:spPr>
            <a:xfrm>
              <a:off x="304920" y="3809880"/>
              <a:ext cx="3041640" cy="23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Cuadro de texto 22"/>
            <p:cNvSpPr/>
            <p:nvPr/>
          </p:nvSpPr>
          <p:spPr>
            <a:xfrm>
              <a:off x="533520" y="5708520"/>
              <a:ext cx="76176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P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6" name="Grupo 26"/>
          <p:cNvGrpSpPr/>
          <p:nvPr/>
        </p:nvGrpSpPr>
        <p:grpSpPr>
          <a:xfrm>
            <a:off x="395280" y="3035160"/>
            <a:ext cx="6919920" cy="2273400"/>
            <a:chOff x="395280" y="3035160"/>
            <a:chExt cx="6919920" cy="2273400"/>
          </a:xfrm>
        </p:grpSpPr>
        <p:sp>
          <p:nvSpPr>
            <p:cNvPr id="937" name="Cuadro de texto 5"/>
            <p:cNvSpPr/>
            <p:nvPr/>
          </p:nvSpPr>
          <p:spPr>
            <a:xfrm>
              <a:off x="395280" y="3348000"/>
              <a:ext cx="58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sfatidilinositol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Rectángulo 6"/>
            <p:cNvSpPr/>
            <p:nvPr/>
          </p:nvSpPr>
          <p:spPr>
            <a:xfrm>
              <a:off x="3681360" y="3309840"/>
              <a:ext cx="363384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inositol mono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Rectángulo 7"/>
            <p:cNvSpPr/>
            <p:nvPr/>
          </p:nvSpPr>
          <p:spPr>
            <a:xfrm>
              <a:off x="3733920" y="4025880"/>
              <a:ext cx="319068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inositol Bi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Rectángulo 8"/>
            <p:cNvSpPr/>
            <p:nvPr/>
          </p:nvSpPr>
          <p:spPr>
            <a:xfrm>
              <a:off x="3733920" y="4940280"/>
              <a:ext cx="23619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ositol tri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Cuadro de texto 15"/>
            <p:cNvSpPr/>
            <p:nvPr/>
          </p:nvSpPr>
          <p:spPr>
            <a:xfrm>
              <a:off x="2376360" y="303516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ínea 16"/>
            <p:cNvSpPr/>
            <p:nvPr/>
          </p:nvSpPr>
          <p:spPr>
            <a:xfrm>
              <a:off x="2452680" y="3492360"/>
              <a:ext cx="11430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Línea 17"/>
            <p:cNvSpPr/>
            <p:nvPr/>
          </p:nvSpPr>
          <p:spPr>
            <a:xfrm>
              <a:off x="4952880" y="3644640"/>
              <a:ext cx="0" cy="4572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Cuadro de texto 18"/>
            <p:cNvSpPr/>
            <p:nvPr/>
          </p:nvSpPr>
          <p:spPr>
            <a:xfrm>
              <a:off x="5181480" y="455904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Hormon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Cuadro de texto 19"/>
            <p:cNvSpPr/>
            <p:nvPr/>
          </p:nvSpPr>
          <p:spPr>
            <a:xfrm>
              <a:off x="5105520" y="364464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ínea 20"/>
            <p:cNvSpPr/>
            <p:nvPr/>
          </p:nvSpPr>
          <p:spPr>
            <a:xfrm>
              <a:off x="4952880" y="4406760"/>
              <a:ext cx="0" cy="5335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Cuadro de texto 21"/>
            <p:cNvSpPr/>
            <p:nvPr/>
          </p:nvSpPr>
          <p:spPr>
            <a:xfrm>
              <a:off x="4191120" y="44830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r>
                <a:rPr b="1" lang="es-ES" sz="14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8" name="Grupo 28"/>
          <p:cNvGrpSpPr/>
          <p:nvPr/>
        </p:nvGrpSpPr>
        <p:grpSpPr>
          <a:xfrm>
            <a:off x="6705720" y="4749840"/>
            <a:ext cx="1744560" cy="1620720"/>
            <a:chOff x="6705720" y="4749840"/>
            <a:chExt cx="1744560" cy="1620720"/>
          </a:xfrm>
        </p:grpSpPr>
        <p:pic>
          <p:nvPicPr>
            <p:cNvPr id="949" name="Imagen 12" descr="sp8431"/>
            <p:cNvPicPr/>
            <p:nvPr/>
          </p:nvPicPr>
          <p:blipFill>
            <a:blip r:embed="rId2"/>
            <a:srcRect l="77517" t="0" r="0" b="47312"/>
            <a:stretch/>
          </p:blipFill>
          <p:spPr>
            <a:xfrm>
              <a:off x="6705720" y="4749840"/>
              <a:ext cx="17445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Cuadro de texto 23"/>
            <p:cNvSpPr/>
            <p:nvPr/>
          </p:nvSpPr>
          <p:spPr>
            <a:xfrm>
              <a:off x="6815160" y="6002280"/>
              <a:ext cx="76212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2" name="2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D6A5-8C36-4131-A2AC-B7E107FC669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3" name="Picture 2" descr=""/>
          <p:cNvPicPr/>
          <p:nvPr/>
        </p:nvPicPr>
        <p:blipFill>
          <a:blip r:embed="rId1"/>
          <a:stretch/>
        </p:blipFill>
        <p:spPr>
          <a:xfrm>
            <a:off x="336600" y="1125360"/>
            <a:ext cx="86281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14CD-AE29-404D-A6AF-58177397CD3C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5" name="Picture 2" descr="\\FANNY_2\Mis documentos\CLASES QUÍMICA BIOLOGICA 2011\Cuadro 4.jpg"/>
          <p:cNvPicPr/>
          <p:nvPr/>
        </p:nvPicPr>
        <p:blipFill>
          <a:blip r:embed="rId1"/>
          <a:stretch/>
        </p:blipFill>
        <p:spPr>
          <a:xfrm>
            <a:off x="324000" y="444600"/>
            <a:ext cx="856908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B425-AAE9-4737-9794-0853E5F18704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7" name="Picture 2" descr="C:\Users\Fanny\Documents\CLASES QUÍMICA BIOLOGICA 2011\Cuadro 1.jpg"/>
          <p:cNvPicPr/>
          <p:nvPr/>
        </p:nvPicPr>
        <p:blipFill>
          <a:blip r:embed="rId1"/>
          <a:stretch/>
        </p:blipFill>
        <p:spPr>
          <a:xfrm>
            <a:off x="250920" y="177840"/>
            <a:ext cx="856908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Cuadro de texto 4"/>
          <p:cNvSpPr/>
          <p:nvPr/>
        </p:nvSpPr>
        <p:spPr>
          <a:xfrm>
            <a:off x="755640" y="260280"/>
            <a:ext cx="7467480" cy="581400"/>
          </a:xfrm>
          <a:prstGeom prst="rect">
            <a:avLst/>
          </a:prstGeom>
          <a:solidFill>
            <a:srgbClr val="7f7f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165d"/>
                </a:solidFill>
                <a:latin typeface="Arial Rounded MT Bold"/>
                <a:ea typeface="Arial"/>
              </a:rPr>
              <a:t>Biosíntesis de Triglicé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Grupo 18"/>
          <p:cNvGrpSpPr/>
          <p:nvPr/>
        </p:nvGrpSpPr>
        <p:grpSpPr>
          <a:xfrm>
            <a:off x="142920" y="836640"/>
            <a:ext cx="9001080" cy="1768320"/>
            <a:chOff x="142920" y="836640"/>
            <a:chExt cx="9001080" cy="1768320"/>
          </a:xfrm>
        </p:grpSpPr>
        <p:pic>
          <p:nvPicPr>
            <p:cNvPr id="810" name="Imagen 5" descr="deposito invitrogen002"/>
            <p:cNvPicPr/>
            <p:nvPr/>
          </p:nvPicPr>
          <p:blipFill>
            <a:blip r:embed="rId1"/>
            <a:srcRect l="1274" t="2643" r="2091" b="77633"/>
            <a:stretch/>
          </p:blipFill>
          <p:spPr>
            <a:xfrm>
              <a:off x="142920" y="836640"/>
              <a:ext cx="900108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Cuadro de texto 10"/>
            <p:cNvSpPr/>
            <p:nvPr/>
          </p:nvSpPr>
          <p:spPr>
            <a:xfrm>
              <a:off x="5580000" y="1628640"/>
              <a:ext cx="25923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erol quin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2" name="Rectángulo 12"/>
          <p:cNvSpPr/>
          <p:nvPr/>
        </p:nvSpPr>
        <p:spPr>
          <a:xfrm>
            <a:off x="4427640" y="4149720"/>
            <a:ext cx="43164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Rectángulo 13"/>
          <p:cNvSpPr/>
          <p:nvPr/>
        </p:nvSpPr>
        <p:spPr>
          <a:xfrm>
            <a:off x="4500720" y="2852640"/>
            <a:ext cx="43164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Rectángulo 14"/>
          <p:cNvSpPr/>
          <p:nvPr/>
        </p:nvSpPr>
        <p:spPr>
          <a:xfrm>
            <a:off x="4572000" y="5661000"/>
            <a:ext cx="43164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5" name="Grupo 23"/>
          <p:cNvGrpSpPr/>
          <p:nvPr/>
        </p:nvGrpSpPr>
        <p:grpSpPr>
          <a:xfrm>
            <a:off x="2987640" y="2565360"/>
            <a:ext cx="4032360" cy="4035600"/>
            <a:chOff x="2987640" y="2565360"/>
            <a:chExt cx="4032360" cy="4035600"/>
          </a:xfrm>
        </p:grpSpPr>
        <p:pic>
          <p:nvPicPr>
            <p:cNvPr id="816" name="Imagen 6" descr="deposito invitrogen002"/>
            <p:cNvPicPr/>
            <p:nvPr/>
          </p:nvPicPr>
          <p:blipFill>
            <a:blip r:embed="rId2"/>
            <a:srcRect l="30802" t="21852" r="30736" b="30711"/>
            <a:stretch/>
          </p:blipFill>
          <p:spPr>
            <a:xfrm>
              <a:off x="2987640" y="2565360"/>
              <a:ext cx="339876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Cuadro de texto 7"/>
            <p:cNvSpPr/>
            <p:nvPr/>
          </p:nvSpPr>
          <p:spPr>
            <a:xfrm>
              <a:off x="4643280" y="285264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Cuadro de texto 9"/>
            <p:cNvSpPr/>
            <p:nvPr/>
          </p:nvSpPr>
          <p:spPr>
            <a:xfrm>
              <a:off x="4716360" y="5589720"/>
              <a:ext cx="1656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at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Autoforma 11"/>
            <p:cNvSpPr/>
            <p:nvPr/>
          </p:nvSpPr>
          <p:spPr>
            <a:xfrm>
              <a:off x="4500720" y="2852640"/>
              <a:ext cx="287280" cy="50508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Cuadro de texto 20"/>
            <p:cNvSpPr/>
            <p:nvPr/>
          </p:nvSpPr>
          <p:spPr>
            <a:xfrm>
              <a:off x="4643280" y="421956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Autoforma 21"/>
            <p:cNvSpPr/>
            <p:nvPr/>
          </p:nvSpPr>
          <p:spPr>
            <a:xfrm>
              <a:off x="4500720" y="421956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Autoforma 22"/>
            <p:cNvSpPr/>
            <p:nvPr/>
          </p:nvSpPr>
          <p:spPr>
            <a:xfrm>
              <a:off x="4500720" y="566100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A3B4-88B7-4A35-B241-AFABD69C8136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9" name="Picture 2" descr=""/>
          <p:cNvPicPr/>
          <p:nvPr/>
        </p:nvPicPr>
        <p:blipFill>
          <a:blip r:embed="rId1"/>
          <a:stretch/>
        </p:blipFill>
        <p:spPr>
          <a:xfrm>
            <a:off x="325440" y="2492280"/>
            <a:ext cx="8451720" cy="4032360"/>
          </a:xfrm>
          <a:prstGeom prst="rect">
            <a:avLst/>
          </a:prstGeom>
          <a:ln w="0">
            <a:noFill/>
          </a:ln>
        </p:spPr>
      </p:pic>
      <p:sp>
        <p:nvSpPr>
          <p:cNvPr id="960" name="2 CuadroTexto"/>
          <p:cNvSpPr/>
          <p:nvPr/>
        </p:nvSpPr>
        <p:spPr>
          <a:xfrm>
            <a:off x="1464840" y="549360"/>
            <a:ext cx="61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BIOSÍNTESIS DE ESFINGOMIEL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3 CuadroTexto"/>
          <p:cNvSpPr/>
          <p:nvPr/>
        </p:nvSpPr>
        <p:spPr>
          <a:xfrm>
            <a:off x="711000" y="1366920"/>
            <a:ext cx="768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SERINA + PALMITOIL-CoA </a:t>
            </a:r>
            <a:r>
              <a:rPr b="1" lang="es-AR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 ESFINGOS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5399-8C61-4C91-912F-0A6E75A69543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1"/>
          <a:stretch/>
        </p:blipFill>
        <p:spPr>
          <a:xfrm>
            <a:off x="503280" y="1773360"/>
            <a:ext cx="8318520" cy="3384360"/>
          </a:xfrm>
          <a:prstGeom prst="rect">
            <a:avLst/>
          </a:prstGeom>
          <a:ln w="0">
            <a:noFill/>
          </a:ln>
        </p:spPr>
      </p:pic>
      <p:sp>
        <p:nvSpPr>
          <p:cNvPr id="964" name="2 CuadroTexto"/>
          <p:cNvSpPr/>
          <p:nvPr/>
        </p:nvSpPr>
        <p:spPr>
          <a:xfrm>
            <a:off x="1665720" y="611280"/>
            <a:ext cx="59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BIOSÍNTESIS DE CEREBRÓS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3 CuadroTexto"/>
          <p:cNvSpPr/>
          <p:nvPr/>
        </p:nvSpPr>
        <p:spPr>
          <a:xfrm>
            <a:off x="2253960" y="5222880"/>
            <a:ext cx="481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  <a:ea typeface="Arial"/>
              </a:rPr>
              <a:t>GLICOLÍP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  <a:ea typeface="Arial"/>
              </a:rPr>
              <a:t>GALACTOSIL- CEREBRÓS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734C-3181-4F79-9D4B-B8F84CF7A999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7" name="Picture 2" descr="\\FANNY_2\Mis documentos\CLASES QUÍMICA BIOLOGICA 2011\Cuadro 3.jpg"/>
          <p:cNvPicPr/>
          <p:nvPr/>
        </p:nvPicPr>
        <p:blipFill>
          <a:blip r:embed="rId1"/>
          <a:stretch/>
        </p:blipFill>
        <p:spPr>
          <a:xfrm>
            <a:off x="250920" y="331920"/>
            <a:ext cx="8642160" cy="6357960"/>
          </a:xfrm>
          <a:prstGeom prst="rect">
            <a:avLst/>
          </a:prstGeom>
          <a:ln w="0">
            <a:noFill/>
          </a:ln>
        </p:spPr>
      </p:pic>
      <p:sp>
        <p:nvSpPr>
          <p:cNvPr id="968" name="1 CuadroTexto"/>
          <p:cNvSpPr/>
          <p:nvPr/>
        </p:nvSpPr>
        <p:spPr>
          <a:xfrm>
            <a:off x="3595680" y="5261040"/>
            <a:ext cx="15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CEREBRÓS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2 CuadroTexto"/>
          <p:cNvSpPr/>
          <p:nvPr/>
        </p:nvSpPr>
        <p:spPr>
          <a:xfrm>
            <a:off x="7016400" y="3841920"/>
            <a:ext cx="69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NA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3 CuadroTexto"/>
          <p:cNvSpPr/>
          <p:nvPr/>
        </p:nvSpPr>
        <p:spPr>
          <a:xfrm>
            <a:off x="684360" y="5762520"/>
            <a:ext cx="50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El ensamble de las cadenas de oligosacáridos tiene lugar en el complejo de Gol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 Narrow"/>
              </a:rPr>
              <a:t>EICOSANOIDE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rostaglandinas, Tromboxanos</a:t>
            </a:r>
            <a:r>
              <a:rPr b="0" lang="es-ES" sz="2800" spc="-1" strike="noStrike">
                <a:solidFill>
                  <a:srgbClr val="ffc000"/>
                </a:solidFill>
                <a:latin typeface="Arial"/>
              </a:rPr>
              <a:t> y </a:t>
            </a: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Leucotrie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Derivan del ácido araquidónico: EICOSANOICO</a:t>
            </a:r>
            <a:r>
              <a:rPr b="1" lang="es-E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 AG poliinsaturado de 20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Actúan como hormonas locales  de efecto ráp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articipan en procesos inflamato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Actúan como vasoconstrictores y poseen acción agregante de plaque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oseen un rápido recambio metaból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0437-B460-4401-8A38-807173A6CC78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4" name="Picture 3" descr=""/>
          <p:cNvPicPr/>
          <p:nvPr/>
        </p:nvPicPr>
        <p:blipFill>
          <a:blip r:embed="rId1"/>
          <a:stretch/>
        </p:blipFill>
        <p:spPr>
          <a:xfrm>
            <a:off x="38160" y="100080"/>
            <a:ext cx="5508720" cy="6513480"/>
          </a:xfrm>
          <a:prstGeom prst="rect">
            <a:avLst/>
          </a:prstGeom>
          <a:ln w="0">
            <a:noFill/>
          </a:ln>
        </p:spPr>
      </p:pic>
      <p:sp>
        <p:nvSpPr>
          <p:cNvPr id="975" name="2 CuadroTexto"/>
          <p:cNvSpPr/>
          <p:nvPr/>
        </p:nvSpPr>
        <p:spPr>
          <a:xfrm>
            <a:off x="5530680" y="649440"/>
            <a:ext cx="3399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Las PG son hidroxiácidos insaturados con un anillo ciclopenta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inestables a en condiciones fisiológicas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Rápidamente se convierten en productos inac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Ácido araquidónico no se encuentra libre en la célula. Está como fosfolípido  de membra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or esta razón, el paso inicial es la hidrólisis de glicerofosfolípido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F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5 Elipse"/>
          <p:cNvSpPr/>
          <p:nvPr/>
        </p:nvSpPr>
        <p:spPr>
          <a:xfrm>
            <a:off x="468360" y="1033560"/>
            <a:ext cx="1295280" cy="600120"/>
          </a:xfrm>
          <a:prstGeom prst="ellipse">
            <a:avLst/>
          </a:prstGeom>
          <a:noFill/>
          <a:ln w="9360">
            <a:solidFill>
              <a:srgbClr val="ff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8 Estrella de 5 puntas"/>
          <p:cNvSpPr/>
          <p:nvPr/>
        </p:nvSpPr>
        <p:spPr>
          <a:xfrm>
            <a:off x="3348000" y="590400"/>
            <a:ext cx="216000" cy="317520"/>
          </a:xfrm>
          <a:custGeom>
            <a:avLst/>
            <a:gdLst/>
            <a:ahLst/>
            <a:rect l="l" t="t" r="r" b="b"/>
            <a:pathLst>
              <a:path w="215900" h="317500">
                <a:moveTo>
                  <a:pt x="0" y="121274"/>
                </a:moveTo>
                <a:lnTo>
                  <a:pt x="82467" y="121275"/>
                </a:lnTo>
                <a:lnTo>
                  <a:pt x="107950" y="0"/>
                </a:lnTo>
                <a:lnTo>
                  <a:pt x="133433" y="121275"/>
                </a:lnTo>
                <a:lnTo>
                  <a:pt x="215900" y="121274"/>
                </a:lnTo>
                <a:lnTo>
                  <a:pt x="149182" y="196225"/>
                </a:lnTo>
                <a:lnTo>
                  <a:pt x="174667" y="317499"/>
                </a:lnTo>
                <a:lnTo>
                  <a:pt x="107950" y="242547"/>
                </a:lnTo>
                <a:lnTo>
                  <a:pt x="41233" y="317499"/>
                </a:lnTo>
                <a:lnTo>
                  <a:pt x="66718" y="196225"/>
                </a:lnTo>
                <a:lnTo>
                  <a:pt x="0" y="121274"/>
                </a:lnTo>
                <a:close/>
              </a:path>
            </a:pathLst>
          </a:custGeom>
          <a:solidFill>
            <a:srgbClr val="ff1a1a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8" name="Picture 4" descr=""/>
          <p:cNvPicPr/>
          <p:nvPr/>
        </p:nvPicPr>
        <p:blipFill>
          <a:blip r:embed="rId2"/>
          <a:stretch/>
        </p:blipFill>
        <p:spPr>
          <a:xfrm>
            <a:off x="2124000" y="1716120"/>
            <a:ext cx="255600" cy="371520"/>
          </a:xfrm>
          <a:prstGeom prst="rect">
            <a:avLst/>
          </a:prstGeom>
          <a:ln w="0">
            <a:noFill/>
          </a:ln>
        </p:spPr>
      </p:pic>
      <p:sp>
        <p:nvSpPr>
          <p:cNvPr id="979" name="9 CuadroTexto"/>
          <p:cNvSpPr/>
          <p:nvPr/>
        </p:nvSpPr>
        <p:spPr>
          <a:xfrm>
            <a:off x="4071240" y="10335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10 CuadroTexto"/>
          <p:cNvSpPr/>
          <p:nvPr/>
        </p:nvSpPr>
        <p:spPr>
          <a:xfrm>
            <a:off x="4331880" y="1577880"/>
            <a:ext cx="1003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c COX</a:t>
            </a:r>
            <a:r>
              <a:rPr b="1" lang="es-AR" sz="1800" spc="-1" strike="noStrike" baseline="-25000">
                <a:solidFill>
                  <a:srgbClr val="800000"/>
                </a:solidFill>
                <a:latin typeface="Arial"/>
                <a:ea typeface="Arial"/>
              </a:rPr>
              <a:t>1</a:t>
            </a: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i COX</a:t>
            </a:r>
            <a:r>
              <a:rPr b="1" lang="es-AR" sz="1800" spc="-1" strike="noStrike" baseline="-25000">
                <a:solidFill>
                  <a:srgbClr val="8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1" name="12 Conector recto de flecha"/>
          <p:cNvCxnSpPr/>
          <p:nvPr/>
        </p:nvCxnSpPr>
        <p:spPr>
          <a:xfrm flipH="1" flipV="1">
            <a:off x="3563280" y="1901160"/>
            <a:ext cx="562680" cy="10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982" name="3 CuadroTexto"/>
          <p:cNvSpPr/>
          <p:nvPr/>
        </p:nvSpPr>
        <p:spPr>
          <a:xfrm>
            <a:off x="3015720" y="2787480"/>
            <a:ext cx="12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  <a:ea typeface="Arial"/>
              </a:rPr>
              <a:t>Peroxid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4 Rectángulo"/>
          <p:cNvSpPr/>
          <p:nvPr/>
        </p:nvSpPr>
        <p:spPr>
          <a:xfrm>
            <a:off x="753840" y="175896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  <a:ea typeface="Arial"/>
              </a:rPr>
              <a:t>Cicliz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1 CuadroTexto"/>
          <p:cNvSpPr/>
          <p:nvPr/>
        </p:nvSpPr>
        <p:spPr>
          <a:xfrm>
            <a:off x="4183200" y="224640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800000"/>
                </a:solidFill>
                <a:latin typeface="Arial"/>
                <a:ea typeface="Arial"/>
              </a:rPr>
              <a:t>(Proceso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800000"/>
                </a:solidFill>
                <a:latin typeface="Arial"/>
                <a:ea typeface="Arial"/>
              </a:rPr>
              <a:t>Inflamatorio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5" name="4 Conector recto de flecha"/>
          <p:cNvCxnSpPr>
            <a:stCxn id="980" idx="3"/>
          </p:cNvCxnSpPr>
          <p:nvPr/>
        </p:nvCxnSpPr>
        <p:spPr>
          <a:xfrm>
            <a:off x="5346360" y="1901520"/>
            <a:ext cx="1080" cy="34524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986" name="7 Elipse"/>
          <p:cNvSpPr/>
          <p:nvPr/>
        </p:nvSpPr>
        <p:spPr>
          <a:xfrm>
            <a:off x="468360" y="3789360"/>
            <a:ext cx="431640" cy="50328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7" name="Picture 13" descr=""/>
          <p:cNvPicPr/>
          <p:nvPr/>
        </p:nvPicPr>
        <p:blipFill>
          <a:blip r:embed="rId3"/>
          <a:stretch/>
        </p:blipFill>
        <p:spPr>
          <a:xfrm>
            <a:off x="438120" y="5164200"/>
            <a:ext cx="4446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ED18-314D-41A5-B18B-CCE070011080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9" name="Picture 2" descr=""/>
          <p:cNvPicPr/>
          <p:nvPr/>
        </p:nvPicPr>
        <p:blipFill>
          <a:blip r:embed="rId1"/>
          <a:stretch/>
        </p:blipFill>
        <p:spPr>
          <a:xfrm>
            <a:off x="347760" y="189000"/>
            <a:ext cx="8545320" cy="6408720"/>
          </a:xfrm>
          <a:prstGeom prst="rect">
            <a:avLst/>
          </a:prstGeom>
          <a:ln w="0">
            <a:noFill/>
          </a:ln>
        </p:spPr>
      </p:pic>
      <p:sp>
        <p:nvSpPr>
          <p:cNvPr id="990" name="1 CuadroTexto"/>
          <p:cNvSpPr/>
          <p:nvPr/>
        </p:nvSpPr>
        <p:spPr>
          <a:xfrm>
            <a:off x="4003200" y="1628640"/>
            <a:ext cx="12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fosfatidilcol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1 Rectángulo"/>
          <p:cNvSpPr/>
          <p:nvPr/>
        </p:nvSpPr>
        <p:spPr>
          <a:xfrm>
            <a:off x="5076720" y="31719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  <a:ea typeface="Arial"/>
              </a:rPr>
              <a:t>c COX1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  <a:ea typeface="Arial"/>
              </a:rPr>
              <a:t>i COX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2528-1953-4B35-B3DE-93E36C0162B5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3" name="Picture 2" descr=""/>
          <p:cNvPicPr/>
          <p:nvPr/>
        </p:nvPicPr>
        <p:blipFill>
          <a:blip r:embed="rId1"/>
          <a:stretch/>
        </p:blipFill>
        <p:spPr>
          <a:xfrm>
            <a:off x="17640" y="50760"/>
            <a:ext cx="5435280" cy="6775560"/>
          </a:xfrm>
          <a:prstGeom prst="rect">
            <a:avLst/>
          </a:prstGeom>
          <a:ln w="0">
            <a:noFill/>
          </a:ln>
        </p:spPr>
      </p:pic>
      <p:sp>
        <p:nvSpPr>
          <p:cNvPr id="994" name="2 CuadroTexto"/>
          <p:cNvSpPr/>
          <p:nvPr/>
        </p:nvSpPr>
        <p:spPr>
          <a:xfrm>
            <a:off x="6012000" y="0"/>
            <a:ext cx="3132000" cy="74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LTA</a:t>
            </a:r>
            <a:r>
              <a:rPr b="1" lang="es-AR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ES UN EPÓXIDO INES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LA MEZCLA DE LTC4 Y LTD4 CONSTITUYE LA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00"/>
                </a:solidFill>
                <a:latin typeface="Arial"/>
              </a:rPr>
              <a:t>SUSTANCIA DE REACCIÓN LENTA DE ANAFILAXIA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(SRS-A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PARTICIPA EN REACCIONES INMUNOLÓG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3 CuadroTexto"/>
          <p:cNvSpPr/>
          <p:nvPr/>
        </p:nvSpPr>
        <p:spPr>
          <a:xfrm>
            <a:off x="227520" y="270828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  <a:ea typeface="Arial"/>
              </a:rPr>
              <a:t>Hidrola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4 Elipse"/>
          <p:cNvSpPr/>
          <p:nvPr/>
        </p:nvSpPr>
        <p:spPr>
          <a:xfrm>
            <a:off x="2735280" y="1325520"/>
            <a:ext cx="136836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6 Rectángulo"/>
          <p:cNvSpPr/>
          <p:nvPr/>
        </p:nvSpPr>
        <p:spPr>
          <a:xfrm>
            <a:off x="2700360" y="1341360"/>
            <a:ext cx="71928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5 CuadroTexto"/>
          <p:cNvSpPr/>
          <p:nvPr/>
        </p:nvSpPr>
        <p:spPr>
          <a:xfrm>
            <a:off x="2839680" y="1325520"/>
            <a:ext cx="1160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600000"/>
                </a:solidFill>
                <a:latin typeface="Arial"/>
                <a:ea typeface="Arial"/>
              </a:rPr>
              <a:t>Lipooxigenas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1 CuadroTexto"/>
          <p:cNvSpPr/>
          <p:nvPr/>
        </p:nvSpPr>
        <p:spPr>
          <a:xfrm>
            <a:off x="2926800" y="330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C43E-E9E2-48FC-8127-7B054AA5A616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2 CuadroTexto"/>
          <p:cNvSpPr/>
          <p:nvPr/>
        </p:nvSpPr>
        <p:spPr>
          <a:xfrm>
            <a:off x="324000" y="144360"/>
            <a:ext cx="8208720" cy="61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APEL FUNCIONAL DE LOS EICOSANO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ROSTAGLANDINAS (PG)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Contracción del músculo liso en útero y tracto gsatrointesti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Inhibición de lipólisis en tejido adipo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Inhibición de la secreción de HCl en estómag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sustancias ubicuas, se producen en todas las células, excepto en G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TROMBOXANOS (TX) 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agregantes de plaquetas y vasoconstrict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n en las plaqu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ROSTACICLINA (PGI</a:t>
            </a:r>
            <a:r>
              <a:rPr b="1" lang="es-AR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Es antiagregante y vasodilatado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 en endotelio de vasos sanguíneos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LEUCOTRIENOS (LT)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oderosos constrictores de la musculatura lisa de bronqu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Mediadores en procesos inflamatorios e inmunológicos como alerg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n en leucoci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Actúan cerca del sitio de sínte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3000-8CEF-45CE-B700-789C4BDFFB42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2 CuadroTexto"/>
          <p:cNvSpPr/>
          <p:nvPr/>
        </p:nvSpPr>
        <p:spPr>
          <a:xfrm>
            <a:off x="468360" y="260280"/>
            <a:ext cx="813600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La aspirina, indometacina y otros compuestos utilizados como antiinflamatorios no esteroideos (AINE) </a:t>
            </a:r>
            <a:r>
              <a:rPr b="1" lang="es-AR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 bloquean la síntesis  de prostaglandinas por su acción  sobre ambas ciclo- oxigenas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Estos fármacos, además de su acción antiinflamatoria tienen efectos colaterales no deseables, como úlceras o hemorragias gastrointestin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Se han diseñado fármacos que inhiben selectivamente a la COX</a:t>
            </a:r>
            <a:r>
              <a:rPr b="1" lang="es-AR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, enzima que se relaciona directamente con la síntesis de PG en los sitios de inflamación. No hay efectos colater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Otros inhiben la fosfolipasa A </a:t>
            </a:r>
            <a:r>
              <a:rPr b="1" lang="es-AR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 no hay síntesis de eicosanoi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La posibilidad de interferir farmacológicamente la producción de estas sustancias tiene gran interés mé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6372-DBCB-4939-9B38-217036B2D87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5" name="Picture 4" descr=""/>
          <p:cNvPicPr/>
          <p:nvPr/>
        </p:nvPicPr>
        <p:blipFill>
          <a:blip r:embed="rId1"/>
          <a:stretch/>
        </p:blipFill>
        <p:spPr>
          <a:xfrm>
            <a:off x="179280" y="112680"/>
            <a:ext cx="878544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Grupo 7"/>
          <p:cNvGrpSpPr/>
          <p:nvPr/>
        </p:nvGrpSpPr>
        <p:grpSpPr>
          <a:xfrm>
            <a:off x="41400" y="260280"/>
            <a:ext cx="9067680" cy="5256360"/>
            <a:chOff x="41400" y="260280"/>
            <a:chExt cx="9067680" cy="5256360"/>
          </a:xfrm>
        </p:grpSpPr>
        <p:pic>
          <p:nvPicPr>
            <p:cNvPr id="824" name="Imagen 4" descr="deposito invitrogen002"/>
            <p:cNvPicPr/>
            <p:nvPr/>
          </p:nvPicPr>
          <p:blipFill>
            <a:blip r:embed="rId1"/>
            <a:srcRect l="1274" t="64805" r="2091" b="6221"/>
            <a:stretch/>
          </p:blipFill>
          <p:spPr>
            <a:xfrm>
              <a:off x="41400" y="2060640"/>
              <a:ext cx="906768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Línea 5"/>
            <p:cNvSpPr/>
            <p:nvPr/>
          </p:nvSpPr>
          <p:spPr>
            <a:xfrm>
              <a:off x="4788000" y="260280"/>
              <a:ext cx="0" cy="187344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Cuadro de texto 6"/>
            <p:cNvSpPr/>
            <p:nvPr/>
          </p:nvSpPr>
          <p:spPr>
            <a:xfrm>
              <a:off x="4859280" y="2781360"/>
              <a:ext cx="1511280" cy="703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ansferas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B3E6-1070-423F-8299-2B0091114EDF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5833800" cy="6286680"/>
          </a:xfrm>
          <a:prstGeom prst="rect">
            <a:avLst/>
          </a:prstGeom>
          <a:ln w="0">
            <a:noFill/>
          </a:ln>
        </p:spPr>
      </p:pic>
      <p:sp>
        <p:nvSpPr>
          <p:cNvPr id="829" name="2 CuadroTexto"/>
          <p:cNvSpPr/>
          <p:nvPr/>
        </p:nvSpPr>
        <p:spPr>
          <a:xfrm>
            <a:off x="6443640" y="1628640"/>
            <a:ext cx="25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Arial"/>
              </a:rPr>
              <a:t>Las enzimas de la síntesis de FL se encuentran insertas en las membranas del 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FE39-7219-4C90-904F-E35788EDDB94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2 Rectángulo"/>
          <p:cNvSpPr/>
          <p:nvPr/>
        </p:nvSpPr>
        <p:spPr>
          <a:xfrm>
            <a:off x="324000" y="404640"/>
            <a:ext cx="8496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ffc000"/>
                </a:solidFill>
                <a:uFillTx/>
                <a:latin typeface="Arial Rounded MT Bold"/>
              </a:rPr>
              <a:t>Fosfolíp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Los fosfolípidos se encuentran presentes principalmente en las membranas biológicas, cumplen funciones vitales en la célul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Regulando la permeabilidad celu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Interviniendo en la solubilización de compuestos poco po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En el proceso de coagulación sanguín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Formando parte de la vaina de mielina de neuronas y de partículas transportadoras de electr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Son lípidos compuestos por ésteres de ácidos grasos, fosfato y en general de una base nitrogena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ángulo 4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os Fosfolí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ángulo 5"/>
          <p:cNvSpPr/>
          <p:nvPr/>
        </p:nvSpPr>
        <p:spPr>
          <a:xfrm>
            <a:off x="457200" y="981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Cabeza polar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(fosfato + alcohol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Cola hidrófoba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(ácidos grasos esenciales poliinsaturad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squeleto Básico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: Glicerol ó Esfingos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Imagen 6" descr="sp6641"/>
          <p:cNvPicPr/>
          <p:nvPr/>
        </p:nvPicPr>
        <p:blipFill>
          <a:blip r:embed="rId1"/>
          <a:srcRect l="75238" t="0" r="0" b="24453"/>
          <a:stretch/>
        </p:blipFill>
        <p:spPr>
          <a:xfrm>
            <a:off x="324000" y="3789360"/>
            <a:ext cx="3671640" cy="2149560"/>
          </a:xfrm>
          <a:prstGeom prst="rect">
            <a:avLst/>
          </a:prstGeom>
          <a:ln w="0">
            <a:noFill/>
          </a:ln>
        </p:spPr>
      </p:pic>
      <p:sp>
        <p:nvSpPr>
          <p:cNvPr id="835" name="Cuadro de texto 7"/>
          <p:cNvSpPr/>
          <p:nvPr/>
        </p:nvSpPr>
        <p:spPr>
          <a:xfrm>
            <a:off x="971640" y="5950080"/>
            <a:ext cx="25923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Acido fosfatí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Línea 8"/>
          <p:cNvSpPr/>
          <p:nvPr/>
        </p:nvSpPr>
        <p:spPr>
          <a:xfrm flipH="1">
            <a:off x="4066920" y="3284640"/>
            <a:ext cx="649080" cy="50472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Imagen 9" descr=""/>
          <p:cNvPicPr/>
          <p:nvPr/>
        </p:nvPicPr>
        <p:blipFill>
          <a:blip r:embed="rId2"/>
          <a:srcRect l="9223" t="29200" r="66731" b="61976"/>
          <a:stretch/>
        </p:blipFill>
        <p:spPr>
          <a:xfrm>
            <a:off x="4859280" y="3933720"/>
            <a:ext cx="3600360" cy="1798920"/>
          </a:xfrm>
          <a:prstGeom prst="rect">
            <a:avLst/>
          </a:prstGeom>
          <a:ln w="0">
            <a:noFill/>
          </a:ln>
        </p:spPr>
      </p:pic>
      <p:sp>
        <p:nvSpPr>
          <p:cNvPr id="838" name="Cuadro de texto 10"/>
          <p:cNvSpPr/>
          <p:nvPr/>
        </p:nvSpPr>
        <p:spPr>
          <a:xfrm>
            <a:off x="5651640" y="5877000"/>
            <a:ext cx="25923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Esfingos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Línea 11"/>
          <p:cNvSpPr/>
          <p:nvPr/>
        </p:nvSpPr>
        <p:spPr>
          <a:xfrm>
            <a:off x="6961320" y="3213000"/>
            <a:ext cx="431640" cy="64764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1 CuadroTexto"/>
          <p:cNvSpPr/>
          <p:nvPr/>
        </p:nvSpPr>
        <p:spPr>
          <a:xfrm>
            <a:off x="4943160" y="4046400"/>
            <a:ext cx="16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Amino alcoh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Ácido gra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ángulo 4"/>
          <p:cNvSpPr/>
          <p:nvPr/>
        </p:nvSpPr>
        <p:spPr>
          <a:xfrm>
            <a:off x="457200" y="274680"/>
            <a:ext cx="8002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000"/>
                </a:solidFill>
                <a:latin typeface="Arial"/>
                <a:ea typeface="Arial"/>
              </a:rPr>
              <a:t>Glicerofosfoli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ángulo 5"/>
          <p:cNvSpPr/>
          <p:nvPr/>
        </p:nvSpPr>
        <p:spPr>
          <a:xfrm>
            <a:off x="395280" y="1052640"/>
            <a:ext cx="47530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etanolam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co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ser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inosit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glice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Cardiolip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Cuadro de texto 7"/>
          <p:cNvSpPr/>
          <p:nvPr/>
        </p:nvSpPr>
        <p:spPr>
          <a:xfrm>
            <a:off x="5002200" y="1468440"/>
            <a:ext cx="2449440" cy="405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N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Cuadro de texto 8"/>
          <p:cNvSpPr/>
          <p:nvPr/>
        </p:nvSpPr>
        <p:spPr>
          <a:xfrm>
            <a:off x="4932360" y="2133720"/>
            <a:ext cx="2449440" cy="405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N(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)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5" name="Imagen 15" descr="sp6641"/>
          <p:cNvPicPr/>
          <p:nvPr/>
        </p:nvPicPr>
        <p:blipFill>
          <a:blip r:embed="rId1"/>
          <a:srcRect l="75238" t="0" r="0" b="24453"/>
          <a:stretch/>
        </p:blipFill>
        <p:spPr>
          <a:xfrm>
            <a:off x="4662360" y="3789360"/>
            <a:ext cx="3672000" cy="2149560"/>
          </a:xfrm>
          <a:prstGeom prst="rect">
            <a:avLst/>
          </a:prstGeom>
          <a:ln w="0">
            <a:noFill/>
          </a:ln>
        </p:spPr>
      </p:pic>
      <p:sp>
        <p:nvSpPr>
          <p:cNvPr id="846" name="Cuadro de texto 16"/>
          <p:cNvSpPr/>
          <p:nvPr/>
        </p:nvSpPr>
        <p:spPr>
          <a:xfrm>
            <a:off x="5100480" y="6276960"/>
            <a:ext cx="2737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Fosfatidilglice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7" name="Grupo 17"/>
          <p:cNvGrpSpPr/>
          <p:nvPr/>
        </p:nvGrpSpPr>
        <p:grpSpPr>
          <a:xfrm>
            <a:off x="4932360" y="2781360"/>
            <a:ext cx="2592360" cy="822960"/>
            <a:chOff x="4932360" y="2781360"/>
            <a:chExt cx="2592360" cy="822960"/>
          </a:xfrm>
        </p:grpSpPr>
        <p:sp>
          <p:nvSpPr>
            <p:cNvPr id="848" name="Cuadro de texto 18"/>
            <p:cNvSpPr/>
            <p:nvPr/>
          </p:nvSpPr>
          <p:spPr>
            <a:xfrm>
              <a:off x="4932360" y="2781360"/>
              <a:ext cx="2592360" cy="82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OH-C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-CH-N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         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COO</a:t>
              </a:r>
              <a:r>
                <a:rPr b="1" lang="es-ES_tradnl" sz="18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Línea 19"/>
            <p:cNvSpPr/>
            <p:nvPr/>
          </p:nvSpPr>
          <p:spPr>
            <a:xfrm>
              <a:off x="6372360" y="3068640"/>
              <a:ext cx="0" cy="142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0" name="1 CuadroTexto"/>
          <p:cNvSpPr/>
          <p:nvPr/>
        </p:nvSpPr>
        <p:spPr>
          <a:xfrm>
            <a:off x="7453440" y="213372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000"/>
                </a:solidFill>
                <a:latin typeface="Arial"/>
                <a:ea typeface="Arial"/>
              </a:rPr>
              <a:t>B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000"/>
                </a:solidFill>
                <a:latin typeface="Arial"/>
                <a:ea typeface="Arial"/>
              </a:rPr>
              <a:t>Nitrogen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83C7-D13C-42E0-A8B7-D6D7F6EFED46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2" name="Picture 2" descr=""/>
          <p:cNvPicPr/>
          <p:nvPr/>
        </p:nvPicPr>
        <p:blipFill>
          <a:blip r:embed="rId1"/>
          <a:stretch/>
        </p:blipFill>
        <p:spPr>
          <a:xfrm>
            <a:off x="468360" y="297000"/>
            <a:ext cx="835164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ángulo 4"/>
          <p:cNvSpPr/>
          <p:nvPr/>
        </p:nvSpPr>
        <p:spPr>
          <a:xfrm>
            <a:off x="243000" y="274680"/>
            <a:ext cx="8229600" cy="114300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ESTRATEGIAS DIFERENTES PARA LA BIOSINTESIS DE FOSFOGLIC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ángulo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ctivación del esqueleto hidrofo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ctivacion de la cabeza po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Cuadro de texto 6"/>
          <p:cNvSpPr/>
          <p:nvPr/>
        </p:nvSpPr>
        <p:spPr>
          <a:xfrm>
            <a:off x="684360" y="3429000"/>
            <a:ext cx="8064360" cy="8254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Acido fosfatídico +  CTP         CDP- diacilglicerol  + P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Línea 7"/>
          <p:cNvSpPr/>
          <p:nvPr/>
        </p:nvSpPr>
        <p:spPr>
          <a:xfrm>
            <a:off x="4357800" y="3645000"/>
            <a:ext cx="64764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Cuadro de texto 8"/>
          <p:cNvSpPr/>
          <p:nvPr/>
        </p:nvSpPr>
        <p:spPr>
          <a:xfrm rot="20962200">
            <a:off x="4354920" y="2421000"/>
            <a:ext cx="280836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CDP-ácido fosfatídico-citidil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8" name="Grupo 9"/>
          <p:cNvGrpSpPr/>
          <p:nvPr/>
        </p:nvGrpSpPr>
        <p:grpSpPr>
          <a:xfrm>
            <a:off x="755640" y="5589720"/>
            <a:ext cx="7920000" cy="459720"/>
            <a:chOff x="755640" y="5589720"/>
            <a:chExt cx="7920000" cy="459720"/>
          </a:xfrm>
        </p:grpSpPr>
        <p:sp>
          <p:nvSpPr>
            <p:cNvPr id="859" name="Cuadro de texto 10"/>
            <p:cNvSpPr/>
            <p:nvPr/>
          </p:nvSpPr>
          <p:spPr>
            <a:xfrm>
              <a:off x="755640" y="5589720"/>
              <a:ext cx="7920000" cy="45972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osforilcolina  +  CTP             CDP-colina  +  P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ínea 11"/>
            <p:cNvSpPr/>
            <p:nvPr/>
          </p:nvSpPr>
          <p:spPr>
            <a:xfrm>
              <a:off x="4284720" y="5878440"/>
              <a:ext cx="64764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1" name="Línea 12"/>
          <p:cNvSpPr/>
          <p:nvPr/>
        </p:nvSpPr>
        <p:spPr>
          <a:xfrm>
            <a:off x="5651640" y="602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Elipse 13"/>
          <p:cNvSpPr/>
          <p:nvPr/>
        </p:nvSpPr>
        <p:spPr>
          <a:xfrm>
            <a:off x="5580000" y="6310440"/>
            <a:ext cx="266400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1,2 Diacilglice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1 CuadroTexto"/>
          <p:cNvSpPr/>
          <p:nvPr/>
        </p:nvSpPr>
        <p:spPr>
          <a:xfrm>
            <a:off x="3112200" y="39639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e5e500"/>
                </a:solidFill>
                <a:latin typeface="Arial"/>
              </a:rPr>
              <a:t>Citidina trifosf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13:31:25Z</dcterms:created>
  <dc:creator>Fanny</dc:creator>
  <dc:description/>
  <dc:language>en-US</dc:language>
  <cp:lastModifiedBy>ethel</cp:lastModifiedBy>
  <cp:lastPrinted>2012-05-07T21:30:02Z</cp:lastPrinted>
  <dcterms:modified xsi:type="dcterms:W3CDTF">2015-05-12T14:22:00Z</dcterms:modified>
  <cp:revision>42</cp:revision>
  <dc:subject/>
  <dc:title>Presentación de PowerPoint</dc:title>
</cp:coreProperties>
</file>